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png" ContentType="image/png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5.png" ContentType="image/png"/>
  <Override PartName="/ppt/media/image41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4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jpeg" ContentType="image/jpeg"/>
  <Override PartName="/ppt/media/image46.wmf" ContentType="image/x-wmf"/>
  <Override PartName="/ppt/media/image3.png" ContentType="image/png"/>
  <Override PartName="/ppt/media/image26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9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34.jpeg" ContentType="image/jpeg"/>
  <Override PartName="/ppt/media/image48.png" ContentType="image/png"/>
  <Override PartName="/ppt/media/image11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6F0-AF08-4700-9006-FBB03A35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5EC7-7F91-41F6-A542-E624EFD2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1D9-F96B-48CF-BE91-12912927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AAA1-C142-4206-8E43-F8F8DF2A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2F7-07D5-4CF7-9297-876B6914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087-4336-4B29-BFAE-D3CF4A7D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4F3-63B3-4968-A152-75AD87C9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4BC-0E34-4EC8-A691-AED3978A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189B-99D9-4856-AA05-5697A0D8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BC2B-5164-4EAD-BCA1-B7F7702F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D430-0AAD-4719-85A7-637A2C2A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D1C-5A88-435D-A825-86F24E66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6541920"/>
            <a:ext cx="44182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ISS CERN 05 J.E Campagne LAL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29280" y="6486480"/>
            <a:ext cx="2062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42D3-E0A4-4DB0-B635-FDFD24654EDF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31008" t="3125" r="60141" b="3125"/>
          <a:stretch/>
        </p:blipFill>
        <p:spPr>
          <a:xfrm>
            <a:off x="0" y="0"/>
            <a:ext cx="596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5160" y="6364440"/>
            <a:ext cx="335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ISS-CERN 22-24/9/05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1209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E1CD-B436-4540-BDB5-05F8976AFE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SPL-Fréju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Some performance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Fréjus sit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French Photodetector R&amp;D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6647040" y="1238400"/>
            <a:ext cx="28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J.E Campagn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398880" y="6334200"/>
            <a:ext cx="39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See also talk at Acc. W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70200" y="5567400"/>
            <a:ext cx="76784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hanks: A. Cazes, M. Mezzetto, L. Mosca, Th. Schwetz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and IPNO &amp; LAL engeeners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299880" y="1214280"/>
            <a:ext cx="4572000" cy="4486320"/>
            <a:chOff x="299880" y="1214280"/>
            <a:chExt cx="4572000" cy="44863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299880" y="1214280"/>
              <a:ext cx="4572000" cy="44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08680" y="1874880"/>
              <a:ext cx="191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SPL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0240" y="4348080"/>
              <a:ext cx="2179800" cy="699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2yrs (+)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8yrs (-)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32076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ffect of the systematic (sig. &amp; bkg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5162400" y="5095800"/>
            <a:ext cx="372276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GB" sz="1200" spc="-1" strike="noStrike">
                <a:solidFill>
                  <a:srgbClr val="000099"/>
                </a:solidFill>
                <a:latin typeface="Symbol"/>
                <a:ea typeface="Symbol"/>
              </a:rPr>
              <a:t></a:t>
            </a:r>
            <a:r>
              <a:rPr b="1" lang="en-GB" sz="1200" spc="-1" strike="noStrike" baseline="-25000">
                <a:solidFill>
                  <a:srgbClr val="000099"/>
                </a:solidFill>
                <a:latin typeface="Comic Sans MS"/>
              </a:rPr>
              <a:t>,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GB" sz="12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GB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=0.82, sin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=0,4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=7.9 10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=2.4 10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12 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&amp; 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use SPL disappearance channel and spectrum analysi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03960" y="2127240"/>
            <a:ext cx="3160440" cy="20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indent="-95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Much more dramatic than ambiguities at small </a:t>
            </a:r>
            <a:r>
              <a:rPr b="0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Remove ambiguities with ATM </a:t>
            </a:r>
            <a:r>
              <a:rPr b="1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52440" y="1486080"/>
            <a:ext cx="9000360" cy="3918240"/>
            <a:chOff x="352440" y="1486080"/>
            <a:chExt cx="9000360" cy="391824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352440" y="1486080"/>
              <a:ext cx="843912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7380000" y="5005440"/>
              <a:ext cx="19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Th. 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677960" y="5649840"/>
            <a:ext cx="341280" cy="273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66080" y="559260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Contour after ATM combin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54160" y="594216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fr-FR" sz="3200" spc="-1" strike="noStrike">
                <a:solidFill>
                  <a:srgbClr val="000099"/>
                </a:solidFill>
                <a:latin typeface="Comic Sans MS"/>
              </a:rPr>
              <a:t>: true valu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45200" y="1155600"/>
            <a:ext cx="4052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Favorable case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6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-263880" y="492768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10yr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81800" y="2100240"/>
            <a:ext cx="2116080" cy="76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2H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40k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réjus site possibilit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123920" y="977760"/>
            <a:ext cx="7875000" cy="5602680"/>
            <a:chOff x="1123920" y="977760"/>
            <a:chExt cx="7875000" cy="5602680"/>
          </a:xfrm>
        </p:grpSpPr>
        <p:grpSp>
          <p:nvGrpSpPr>
            <p:cNvPr id="214" name=""/>
            <p:cNvGrpSpPr/>
            <p:nvPr/>
          </p:nvGrpSpPr>
          <p:grpSpPr>
            <a:xfrm>
              <a:off x="1123920" y="977760"/>
              <a:ext cx="7340760" cy="5538960"/>
              <a:chOff x="1123920" y="977760"/>
              <a:chExt cx="7340760" cy="553896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1123920" y="977760"/>
                <a:ext cx="7340760" cy="5538960"/>
                <a:chOff x="1123920" y="977760"/>
                <a:chExt cx="7340760" cy="5538960"/>
              </a:xfrm>
            </p:grpSpPr>
            <p:pic>
              <p:nvPicPr>
                <p:cNvPr id="21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123920" y="977760"/>
                  <a:ext cx="7340760" cy="553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7" name=""/>
                <p:cNvSpPr/>
                <p:nvPr/>
              </p:nvSpPr>
              <p:spPr>
                <a:xfrm>
                  <a:off x="3997440" y="2546280"/>
                  <a:ext cx="245880" cy="219240"/>
                </a:xfrm>
                <a:prstGeom prst="diamond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884920" y="2647800"/>
                  <a:ext cx="245880" cy="219240"/>
                </a:xfrm>
                <a:prstGeom prst="diamond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129360" y="2535120"/>
                  <a:ext cx="245880" cy="219240"/>
                </a:xfrm>
                <a:prstGeom prst="diamond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3227760" y="2151000"/>
                <a:ext cx="1675440" cy="337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HK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088160" y="2684520"/>
                <a:ext cx="2457360" cy="337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Henderson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25800" y="2106720"/>
                <a:ext cx="2727000" cy="3988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New Fréjus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166520" y="6181560"/>
              <a:ext cx="183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L.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New Fréjus Cavern (MEMPHYS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11760" y="1154160"/>
            <a:ext cx="3702960" cy="5016600"/>
            <a:chOff x="311760" y="1154160"/>
            <a:chExt cx="3702960" cy="50166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rcRect l="26492" t="0" r="32464" b="3039"/>
            <a:stretch/>
          </p:blipFill>
          <p:spPr>
            <a:xfrm>
              <a:off x="871560" y="1154160"/>
              <a:ext cx="3143160" cy="5016600"/>
            </a:xfrm>
            <a:prstGeom prst="rect">
              <a:avLst/>
            </a:prstGeom>
            <a:ln w="19080">
              <a:solidFill>
                <a:srgbClr val="ff0c14"/>
              </a:solidFill>
              <a:miter/>
            </a:ln>
          </p:spPr>
        </p:pic>
        <p:sp>
          <p:nvSpPr>
            <p:cNvPr id="227" name=""/>
            <p:cNvSpPr/>
            <p:nvPr/>
          </p:nvSpPr>
          <p:spPr>
            <a:xfrm>
              <a:off x="311760" y="5324400"/>
              <a:ext cx="2784960" cy="5814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Fréjus*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14760" y="567684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94480" y="2568600"/>
              <a:ext cx="2445120" cy="5814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CERN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59080" y="289260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08120" y="3125880"/>
              <a:ext cx="1104840" cy="263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46440" y="4057560"/>
              <a:ext cx="269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98360" y="611964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*: Modan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1560" y="4630680"/>
            <a:ext cx="5032440" cy="174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Based on well experienced civil engineer studies.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First cost and time estimate will come soon for a dedicated operation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Beyond that  a Design Study is neede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29600" y="3451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954840" y="888840"/>
            <a:ext cx="1555920" cy="2825640"/>
            <a:chOff x="6954840" y="888840"/>
            <a:chExt cx="1555920" cy="2825640"/>
          </a:xfrm>
        </p:grpSpPr>
        <p:sp>
          <p:nvSpPr>
            <p:cNvPr id="237" name=""/>
            <p:cNvSpPr/>
            <p:nvPr/>
          </p:nvSpPr>
          <p:spPr>
            <a:xfrm>
              <a:off x="6973920" y="88884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85080" y="155736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53480" y="155088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54840" y="153972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276960" y="1003320"/>
            <a:ext cx="1555920" cy="2825640"/>
            <a:chOff x="6276960" y="1003320"/>
            <a:chExt cx="1555920" cy="2825640"/>
          </a:xfrm>
        </p:grpSpPr>
        <p:sp>
          <p:nvSpPr>
            <p:cNvPr id="242" name=""/>
            <p:cNvSpPr/>
            <p:nvPr/>
          </p:nvSpPr>
          <p:spPr>
            <a:xfrm>
              <a:off x="6296040" y="10033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07200" y="167184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75600" y="166536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76960" y="1654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61000" y="1158840"/>
            <a:ext cx="1555920" cy="2825640"/>
            <a:chOff x="5661000" y="1158840"/>
            <a:chExt cx="1555920" cy="2825640"/>
          </a:xfrm>
        </p:grpSpPr>
        <p:sp>
          <p:nvSpPr>
            <p:cNvPr id="247" name=""/>
            <p:cNvSpPr/>
            <p:nvPr/>
          </p:nvSpPr>
          <p:spPr>
            <a:xfrm>
              <a:off x="5680080" y="115884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91240" y="182736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59640" y="182088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61000" y="180972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091120" y="1290600"/>
            <a:ext cx="1555920" cy="2825640"/>
            <a:chOff x="5091120" y="1290600"/>
            <a:chExt cx="1555920" cy="2825640"/>
          </a:xfrm>
        </p:grpSpPr>
        <p:sp>
          <p:nvSpPr>
            <p:cNvPr id="252" name=""/>
            <p:cNvSpPr/>
            <p:nvPr/>
          </p:nvSpPr>
          <p:spPr>
            <a:xfrm>
              <a:off x="5110200" y="129060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21360" y="195912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9760" y="195264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91120" y="194148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918600" y="1440000"/>
            <a:ext cx="2241720" cy="2825640"/>
            <a:chOff x="3918600" y="1440000"/>
            <a:chExt cx="2241720" cy="2825640"/>
          </a:xfrm>
        </p:grpSpPr>
        <p:sp>
          <p:nvSpPr>
            <p:cNvPr id="257" name=""/>
            <p:cNvSpPr/>
            <p:nvPr/>
          </p:nvSpPr>
          <p:spPr>
            <a:xfrm>
              <a:off x="4340160" y="210816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918600" y="1440000"/>
              <a:ext cx="2241720" cy="2792520"/>
              <a:chOff x="3918600" y="1440000"/>
              <a:chExt cx="2241720" cy="2792520"/>
            </a:xfrm>
          </p:grpSpPr>
          <p:sp>
            <p:nvSpPr>
              <p:cNvPr id="259" name=""/>
              <p:cNvSpPr/>
              <p:nvPr/>
            </p:nvSpPr>
            <p:spPr>
              <a:xfrm>
                <a:off x="4329000" y="1440000"/>
                <a:ext cx="1525320" cy="188460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08200" y="2102040"/>
                <a:ext cx="1363680" cy="213048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4460760" y="2330280"/>
                <a:ext cx="1268280" cy="41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28120" y="167832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4433400" y="2497320"/>
                <a:ext cx="28440" cy="154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18600" y="301500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99"/>
                    </a:solidFill>
                    <a:latin typeface="Comic Sans MS"/>
                  </a:rPr>
                  <a:t>60m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309920" y="2090880"/>
                <a:ext cx="1555560" cy="598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1956600" y="610704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4800mw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2960" y="0"/>
            <a:ext cx="23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L.Mosc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0864400">
            <a:off x="4638600" y="3225600"/>
            <a:ext cx="4226760" cy="5796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5x200,000m</a:t>
            </a:r>
            <a:r>
              <a:rPr b="0" lang="en-GB" sz="2800" spc="-1" strike="noStrike" baseline="30000">
                <a:solidFill>
                  <a:srgbClr val="003399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H</a:t>
            </a:r>
            <a:r>
              <a:rPr b="0" lang="en-GB" sz="28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49080" y="457200"/>
            <a:ext cx="77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399"/>
                </a:solidFill>
                <a:latin typeface="Comic Sans MS"/>
              </a:rPr>
              <a:t>PMT size &lt;=&gt; cost</a:t>
            </a:r>
            <a:endParaRPr b="0" lang="en-US" sz="4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6366960" y="134136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7640" y="1915920"/>
            <a:ext cx="8785080" cy="1904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Diameter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 20“   &lt;=&gt;      (20“)17“   &lt;=&gt;    12“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projected area         1660                 1450            615    cm²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QE(typ)         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 20                     20              24    %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CE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            60                     60              70    %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112680" y="3645000"/>
            <a:ext cx="8636040" cy="609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Cost                   2500               2500           800   </a:t>
            </a:r>
            <a:r>
              <a:rPr b="1" lang="de-DE" sz="3200" spc="-1" strike="noStrike">
                <a:solidFill>
                  <a:srgbClr val="0000ff"/>
                </a:solidFill>
                <a:latin typeface="Tahoma"/>
              </a:rPr>
              <a:t>€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4724280"/>
            <a:ext cx="8820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Cost/</a:t>
            </a:r>
            <a:r>
              <a:rPr b="0" i="1" lang="de-DE" sz="3200" spc="-1" strike="noStrike">
                <a:solidFill>
                  <a:srgbClr val="0000ff"/>
                </a:solidFill>
                <a:latin typeface="Tahoma"/>
              </a:rPr>
              <a:t>cm²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 per useful PE</a:t>
            </a:r>
            <a:r>
              <a:rPr b="0" i="1" lang="de-DE" sz="3200" spc="-1" strike="noStrike" baseline="-25000">
                <a:solidFill>
                  <a:srgbClr val="0000ff"/>
                </a:solidFill>
                <a:latin typeface="Arial"/>
              </a:rPr>
              <a:t>U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0" lang="de-DE" sz="3200" spc="-1" strike="noStrike">
                <a:solidFill>
                  <a:srgbClr val="0000ff"/>
                </a:solidFill>
                <a:latin typeface="Tahoma"/>
              </a:rPr>
              <a:t>cost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/(</a:t>
            </a:r>
            <a:r>
              <a:rPr b="0" lang="de-DE" sz="3200" spc="-1" strike="noStrike">
                <a:solidFill>
                  <a:srgbClr val="0000ff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QE</a:t>
            </a:r>
            <a:r>
              <a:rPr b="0" i="1" lang="de-DE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CE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12.6            14.4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     7.7  </a:t>
            </a: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€/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PE</a:t>
            </a:r>
            <a:r>
              <a:rPr b="1" lang="de-DE" sz="2000" spc="-1" strike="noStrike" baseline="-25000">
                <a:solidFill>
                  <a:srgbClr val="0000ff"/>
                </a:solidFill>
                <a:latin typeface="Arial"/>
              </a:rPr>
              <a:t>U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cm²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49080" y="45684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99"/>
                </a:solidFill>
                <a:latin typeface="Comic Sans MS"/>
              </a:rPr>
              <a:t>Quantities and total cost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25520" y="2492280"/>
            <a:ext cx="8540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ff0000"/>
                </a:solidFill>
                <a:latin typeface="Comic Sans MS"/>
              </a:rPr>
              <a:t>20“     </a:t>
            </a:r>
            <a:r>
              <a:rPr b="1" i="1" lang="de-DE" sz="3600" spc="-1" strike="noStrike">
                <a:solidFill>
                  <a:srgbClr val="ff0000"/>
                </a:solidFill>
                <a:latin typeface="Comic Sans MS"/>
              </a:rPr>
              <a:t>200,000</a:t>
            </a:r>
            <a:r>
              <a:rPr b="0" lang="de-DE" sz="3600" spc="-1" strike="noStrike">
                <a:solidFill>
                  <a:srgbClr val="ff0000"/>
                </a:solidFill>
                <a:latin typeface="Comic Sans MS"/>
              </a:rPr>
              <a:t>   x  € 2500 = 500M</a:t>
            </a:r>
            <a:endParaRPr b="0" lang="en-US" sz="36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0000ff"/>
                </a:solidFill>
                <a:latin typeface="Comic Sans MS"/>
              </a:rPr>
              <a:t>12“   540,000       x  €800   = </a:t>
            </a:r>
            <a:r>
              <a:rPr b="1" i="1" lang="de-DE" sz="3600" spc="-1" strike="noStrike">
                <a:solidFill>
                  <a:srgbClr val="0000ff"/>
                </a:solidFill>
                <a:latin typeface="Comic Sans MS"/>
              </a:rPr>
              <a:t>432</a:t>
            </a: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698040" y="4832280"/>
            <a:ext cx="781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Comment: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one should integrate the electronic + HV pric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465768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66960" y="196992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hotodetector R&amp;D in France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3000" y="1386000"/>
            <a:ext cx="8364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&amp;D launched after NNN05 but based on on-going R&amp;D with Photoni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PN-Orsay, LAL &amp; Photonis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together in an official GIS to develop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Smart-Photodetectors (</a:t>
            </a:r>
            <a:r>
              <a:rPr b="0" i="1" lang="en-GB" sz="1800" spc="-1" strike="noStrike">
                <a:solidFill>
                  <a:srgbClr val="ff0000"/>
                </a:solidFill>
                <a:latin typeface="Comic Sans MS"/>
              </a:rPr>
              <a:t>ie electronic up to ADC/TDC included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: 6 engineers + 2 post-docs  + Photonis engineer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200k€/3yrs has been asked at the new National Research Agency (ANR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329760" y="5386320"/>
            <a:ext cx="91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otonis @ NNN05: 500,000 PMT -12”- 800€/u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5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Comic Sans MS"/>
              </a:rPr>
              <a:t>New pump capacity needed?</a:t>
            </a:r>
            <a:endParaRPr b="0" lang="en-US" sz="4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43120" y="1123920"/>
            <a:ext cx="7781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99"/>
                </a:solidFill>
                <a:latin typeface="Comic Sans MS"/>
              </a:rPr>
              <a:t>Delivery over 6 years 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99"/>
                </a:solidFill>
                <a:latin typeface="Comic Sans MS"/>
              </a:rPr>
              <a:t>300 working days/year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843120" y="2133720"/>
            <a:ext cx="77817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de-DE" sz="2000" spc="-1" strike="noStrike" u="sng">
                <a:solidFill>
                  <a:srgbClr val="ff0000"/>
                </a:solidFill>
                <a:uFillTx/>
                <a:latin typeface="Comic Sans MS"/>
              </a:rPr>
              <a:t>20“ tube</a:t>
            </a:r>
            <a:r>
              <a:rPr b="0" i="1" lang="de-DE" sz="2000" spc="-1" strike="noStrike" u="sng">
                <a:solidFill>
                  <a:srgbClr val="000099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50,000/6/300 =&gt; 28 good tubes x yield 0.7 = 40 starts/day    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(1 start/pump/day) =&gt; </a:t>
            </a:r>
            <a:r>
              <a:rPr b="0" i="1" lang="de-DE" sz="2000" spc="-1" strike="noStrike">
                <a:solidFill>
                  <a:srgbClr val="ff0000"/>
                </a:solidFill>
                <a:latin typeface="Comic Sans MS"/>
              </a:rPr>
              <a:t>40 pumps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( € 7M or so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43120" y="3181320"/>
            <a:ext cx="7781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de-DE" sz="2000" spc="-1" strike="noStrike" u="sng">
                <a:solidFill>
                  <a:srgbClr val="ff0000"/>
                </a:solidFill>
                <a:uFillTx/>
                <a:latin typeface="Comic Sans MS"/>
              </a:rPr>
              <a:t>12“ tub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135,000/6/300 =&gt; 75 good tubes x yield 0.7 = 110 starts/day.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99"/>
                </a:solidFill>
                <a:latin typeface="Comic Sans MS"/>
              </a:rPr>
              <a:t>A multi-array computerised pump at Photonis handles 20 starts/da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               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=&gt; 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       </a:t>
            </a:r>
            <a:r>
              <a:rPr b="0" i="1" lang="de-DE" sz="2000" spc="-1" strike="noStrike">
                <a:solidFill>
                  <a:srgbClr val="ff0000"/>
                </a:solidFill>
                <a:latin typeface="Comic Sans MS"/>
              </a:rPr>
              <a:t>6 pumps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 ( € 2M or so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66080" y="6461280"/>
            <a:ext cx="51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Comment: x4 the PMT number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62360" y="167004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49080" y="19800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99"/>
                </a:solidFill>
                <a:latin typeface="Comic Sans MS"/>
              </a:rPr>
              <a:t>+ Sub-conclusions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12“ seems much better than 20“/17“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cost per useful photoelectron &amp; total PMT cos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Tim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single-electron resolution (17“ equal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granularity 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weight and handl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implosion risk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investments and start-up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5381280" y="6032520"/>
            <a:ext cx="36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07920" y="593280"/>
            <a:ext cx="75232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Comic Sans MS"/>
              </a:rPr>
              <a:t>Photonis has all the technical capability needed!</a:t>
            </a:r>
            <a:br>
              <a:rPr sz="3200"/>
            </a:br>
            <a:br>
              <a:rPr sz="2800"/>
            </a:br>
            <a:r>
              <a:rPr b="0" i="1" lang="en-US" sz="3200" spc="-1" strike="noStrike">
                <a:solidFill>
                  <a:srgbClr val="003399"/>
                </a:solidFill>
                <a:latin typeface="Comic Sans MS"/>
              </a:rPr>
              <a:t>R&amp;D cooperation:</a:t>
            </a:r>
            <a:r>
              <a:rPr b="0" lang="en-US" sz="3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3399"/>
                </a:solidFill>
                <a:latin typeface="Comic Sans MS"/>
              </a:rPr>
              <a:t>detailed &amp; intensive talks are going on with the MEMPHYS collaboration to</a:t>
            </a:r>
            <a:r>
              <a:rPr b="1" i="1" lang="en-US" sz="2800" spc="-1" strike="noStrike">
                <a:solidFill>
                  <a:srgbClr val="003399"/>
                </a:solidFill>
                <a:latin typeface="Comic Sans MS"/>
              </a:rPr>
              <a:t> d</a:t>
            </a:r>
            <a:r>
              <a:rPr b="0" i="1" lang="en-US" sz="2800" spc="-1" strike="noStrike">
                <a:solidFill>
                  <a:srgbClr val="003399"/>
                </a:solidFill>
                <a:latin typeface="Comic Sans MS"/>
              </a:rPr>
              <a:t>efine a balanced programme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3399"/>
                </a:solidFill>
                <a:latin typeface="Comic Sans MS"/>
              </a:rPr>
              <a:t>Workshop planned in the spring</a:t>
            </a:r>
            <a:br>
              <a:rPr sz="2400"/>
            </a:b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5381280" y="6032520"/>
            <a:ext cx="36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ingredients for physics analysi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385640"/>
            <a:ext cx="807732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Č located 130km from CERN (see site later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Essentially SK analysis with tighter cuts for e/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id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cf. hep-ph/0105297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energy resolution dominated by Fermi motion* (200MeV bins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2% systematics on signal &amp; bkgd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(see effect later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Optimized machine versions: </a:t>
            </a:r>
            <a:r>
              <a:rPr b="0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 (M. Mezzetto) and SB (A.C + J.E.C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Atmospheric Neutrinos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(Th. Schwetz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GLoBES &amp; NUANC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6014880"/>
            <a:ext cx="41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*: migration matrix for </a:t>
            </a:r>
            <a:r>
              <a:rPr b="0" lang="en-GB" sz="1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lectronic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88600" y="2109960"/>
            <a:ext cx="8077320" cy="26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rigger @ ¼ p.e (3kHz from SK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DC: 12bits 0,4ns/c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ADC: 12bits 0,15pC/c with 1 p.e @ 20-30 adc channels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High speed digital readout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st reduction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thanks to high level of integration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Use AMS 0,35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m BiCMOS ASIC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1008000"/>
            <a:ext cx="6961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LAL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rom amplifier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up to ADC/TDC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based on past experience with similar state of the art front-end electronics developed for OPERA, W-Si ILC prototype, LHCb…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879560" y="4384800"/>
            <a:ext cx="6317640" cy="2220840"/>
            <a:chOff x="1879560" y="4384800"/>
            <a:chExt cx="6317640" cy="2220840"/>
          </a:xfrm>
        </p:grpSpPr>
        <p:sp>
          <p:nvSpPr>
            <p:cNvPr id="297" name=""/>
            <p:cNvSpPr/>
            <p:nvPr/>
          </p:nvSpPr>
          <p:spPr>
            <a:xfrm>
              <a:off x="1879560" y="4681440"/>
              <a:ext cx="5978520" cy="1924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49440" y="4890960"/>
              <a:ext cx="930240" cy="151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Ampli</a:t>
              </a:r>
              <a:r>
                <a:rPr b="0" lang="fr-FR" sz="1600" spc="-1" strike="noStrike">
                  <a:solidFill>
                    <a:srgbClr val="003399"/>
                  </a:solidFill>
                  <a:latin typeface="Comic Sans MS"/>
                </a:rPr>
                <a:t>.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53160" y="4897440"/>
              <a:ext cx="2851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low shape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75480" y="6032520"/>
              <a:ext cx="2782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Fast shape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53520" y="4897440"/>
              <a:ext cx="19148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&amp;H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477040" y="5921280"/>
              <a:ext cx="777600" cy="628920"/>
              <a:chOff x="5477040" y="5921280"/>
              <a:chExt cx="777600" cy="628920"/>
            </a:xfrm>
          </p:grpSpPr>
          <p:sp>
            <p:nvSpPr>
              <p:cNvPr id="303" name=""/>
              <p:cNvSpPr/>
              <p:nvPr/>
            </p:nvSpPr>
            <p:spPr>
              <a:xfrm>
                <a:off x="5609880" y="6043320"/>
                <a:ext cx="524880" cy="384120"/>
              </a:xfrm>
              <a:custGeom>
                <a:avLst/>
                <a:gdLst/>
                <a:ahLst/>
                <a:rect l="l" t="t" r="r" b="b"/>
                <a:pathLst>
                  <a:path w="679" h="352">
                    <a:moveTo>
                      <a:pt x="679" y="0"/>
                    </a:moveTo>
                    <a:lnTo>
                      <a:pt x="344" y="0"/>
                    </a:lnTo>
                    <a:lnTo>
                      <a:pt x="344" y="352"/>
                    </a:lnTo>
                    <a:lnTo>
                      <a:pt x="0" y="35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77040" y="5921280"/>
                <a:ext cx="777600" cy="62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5875560" y="6032520"/>
              <a:ext cx="1888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TDC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68000" y="4897440"/>
              <a:ext cx="19101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ADC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96760" y="552132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12720" y="438480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cxnSp>
          <p:nvCxnSpPr>
            <p:cNvPr id="309" name=""/>
            <p:cNvCxnSpPr>
              <a:stCxn id="308" idx="1"/>
              <a:endCxn id="301" idx="0"/>
            </p:cNvCxnSpPr>
            <p:nvPr/>
          </p:nvCxnSpPr>
          <p:spPr>
            <a:xfrm flipV="1" rot="10800000">
              <a:off x="5811120" y="4567320"/>
              <a:ext cx="799200" cy="3290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298" idx="3"/>
              <a:endCxn id="299" idx="1"/>
            </p:cNvCxnSpPr>
            <p:nvPr/>
          </p:nvCxnSpPr>
          <p:spPr>
            <a:xfrm flipV="1">
              <a:off x="3379320" y="5100120"/>
              <a:ext cx="289440" cy="551520"/>
            </a:xfrm>
            <a:prstGeom prst="curvedConnector5">
              <a:avLst>
                <a:gd name="adj1" fmla="val 49937"/>
                <a:gd name="adj2" fmla="val 49967"/>
                <a:gd name="adj3" fmla="val 49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" name=""/>
            <p:cNvCxnSpPr>
              <a:stCxn id="298" idx="3"/>
              <a:endCxn id="300" idx="1"/>
            </p:cNvCxnSpPr>
            <p:nvPr/>
          </p:nvCxnSpPr>
          <p:spPr>
            <a:xfrm>
              <a:off x="3379320" y="5651640"/>
              <a:ext cx="289440" cy="584640"/>
            </a:xfrm>
            <a:prstGeom prst="curvedConnector5">
              <a:avLst>
                <a:gd name="adj1" fmla="val 49937"/>
                <a:gd name="adj2" fmla="val 49969"/>
                <a:gd name="adj3" fmla="val 49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04" idx="0"/>
              <a:endCxn id="307" idx="1"/>
            </p:cNvCxnSpPr>
            <p:nvPr/>
          </p:nvCxnSpPr>
          <p:spPr>
            <a:xfrm flipH="1" flipV="1" rot="5400000">
              <a:off x="5821920" y="5748480"/>
              <a:ext cx="216360" cy="1292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</p:grpSp>
      <p:sp>
        <p:nvSpPr>
          <p:cNvPr id="313" name=""/>
          <p:cNvSpPr/>
          <p:nvPr/>
        </p:nvSpPr>
        <p:spPr>
          <a:xfrm>
            <a:off x="1041480" y="5245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4640" y="5340240"/>
            <a:ext cx="2241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PM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08920" y="4986360"/>
            <a:ext cx="2637000" cy="117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Digita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Info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06" idx="3"/>
            <a:endCxn id="315" idx="1"/>
          </p:cNvCxnSpPr>
          <p:nvPr/>
        </p:nvCxnSpPr>
        <p:spPr>
          <a:xfrm>
            <a:off x="7179840" y="5100120"/>
            <a:ext cx="531000" cy="46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05" idx="3"/>
            <a:endCxn id="315" idx="1"/>
          </p:cNvCxnSpPr>
          <p:nvPr/>
        </p:nvCxnSpPr>
        <p:spPr>
          <a:xfrm flipV="1">
            <a:off x="7170480" y="5568480"/>
            <a:ext cx="540360" cy="66744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14" idx="3"/>
            <a:endCxn id="298" idx="1"/>
          </p:cNvCxnSpPr>
          <p:nvPr/>
        </p:nvCxnSpPr>
        <p:spPr>
          <a:xfrm>
            <a:off x="1769760" y="5630760"/>
            <a:ext cx="680040" cy="216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Mechanics &amp; PMT test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761080" y="2027160"/>
            <a:ext cx="3058920" cy="333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rcRect l="3556" t="9778" r="8893" b="3911"/>
          <a:stretch/>
        </p:blipFill>
        <p:spPr>
          <a:xfrm>
            <a:off x="1117440" y="2209680"/>
            <a:ext cx="2003760" cy="2154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55560" y="4753080"/>
            <a:ext cx="526104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asic unit that we want to build and test under water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04080" y="4787640"/>
            <a:ext cx="314280" cy="531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05160" y="2976480"/>
            <a:ext cx="23050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Electronic box water tigh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592000" y="3244680"/>
            <a:ext cx="66852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32840" y="5388120"/>
            <a:ext cx="20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IPNO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35160" y="946080"/>
            <a:ext cx="69609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PNO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: well experienced in photodetectors (last operation: Auger). With PHOTONIS tests of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PMT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8”, 9” </a:t>
            </a:r>
            <a:r>
              <a:rPr b="0" lang="en-GB" sz="1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12”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and Hybrid-PMT and HP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MT characteristics measurement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016080" y="1090440"/>
            <a:ext cx="5715000" cy="4615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5435280" y="1751040"/>
            <a:ext cx="40345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1pe spectrum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80480" y="4554360"/>
            <a:ext cx="3018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IPNO 14/9/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4600" y="1687680"/>
            <a:ext cx="41000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XP1806 8”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Not the bes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Not the wors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760" y="5810400"/>
            <a:ext cx="84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No diff. 5”,8”,10” so 12” should be identica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56600" y="2455920"/>
            <a:ext cx="33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2kV/G=10</a:t>
            </a:r>
            <a:r>
              <a:rPr b="0" lang="en-GB" sz="3200" spc="-1" strike="noStrike" baseline="30000">
                <a:solidFill>
                  <a:srgbClr val="003399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01720" y="5411880"/>
            <a:ext cx="301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g=25 before ADC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51320" y="3687840"/>
            <a:ext cx="1528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95600" y="3332160"/>
            <a:ext cx="1528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0920" y="3170160"/>
            <a:ext cx="250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/V~3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159160" y="3289320"/>
            <a:ext cx="12600" cy="436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ummar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92200" y="1305000"/>
            <a:ext cx="822960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 MEMPHYS Mt-scale Water Cerencov detector has a quite good accelerator neutrino program (not exposed here the Pdk and SN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 R&amp;D on photodetector is started in France and will come in 2006 with first version of “SmartDetector”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 Civil engineer pre-study for new Fréjus Lab. has been performed and seems encouraging (first costing will come soon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690360" y="5651640"/>
            <a:ext cx="34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ank you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3399"/>
                </a:solidFill>
                <a:latin typeface="Comic Sans MS"/>
              </a:rPr>
              <a:t>END</a:t>
            </a:r>
            <a:endParaRPr b="0" lang="en-US" sz="8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Other expected performance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865760" y="1655640"/>
            <a:ext cx="3954240" cy="4052880"/>
            <a:chOff x="4865760" y="1655640"/>
            <a:chExt cx="3954240" cy="4052880"/>
          </a:xfrm>
        </p:grpSpPr>
        <p:sp>
          <p:nvSpPr>
            <p:cNvPr id="346" name=""/>
            <p:cNvSpPr/>
            <p:nvPr/>
          </p:nvSpPr>
          <p:spPr>
            <a:xfrm>
              <a:off x="4875120" y="1655640"/>
              <a:ext cx="3944880" cy="40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865760" y="1761840"/>
              <a:ext cx="3678120" cy="3732120"/>
              <a:chOff x="4865760" y="1761840"/>
              <a:chExt cx="3678120" cy="3732120"/>
            </a:xfrm>
          </p:grpSpPr>
          <p:pic>
            <p:nvPicPr>
              <p:cNvPr id="3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865760" y="2157120"/>
                <a:ext cx="3678120" cy="333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>
                <a:off x="5475240" y="4186080"/>
                <a:ext cx="1200240" cy="76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2yrs (</a:t>
                </a:r>
                <a:r>
                  <a:rPr b="1" lang="en-GB" sz="2000" spc="-1" strike="noStrike">
                    <a:solidFill>
                      <a:srgbClr val="003399"/>
                    </a:solidFill>
                    <a:latin typeface="Comic Sans MS"/>
                  </a:rPr>
                  <a:t>+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8yrs (</a:t>
                </a:r>
                <a:r>
                  <a:rPr b="1" lang="en-GB" sz="2000" spc="-1" strike="noStrike">
                    <a:solidFill>
                      <a:srgbClr val="003399"/>
                    </a:solidFill>
                    <a:latin typeface="Comic Sans MS"/>
                  </a:rPr>
                  <a:t>-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84760" y="1761840"/>
                <a:ext cx="239616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3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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 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0" lang="en-GB" sz="2000" spc="-1" strike="noStrike" baseline="-25000">
                    <a:solidFill>
                      <a:srgbClr val="003399"/>
                    </a:solidFill>
                    <a:latin typeface="Symbol"/>
                    <a:ea typeface="Symbol"/>
                  </a:rPr>
                  <a:t>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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1" name=""/>
          <p:cNvGrpSpPr/>
          <p:nvPr/>
        </p:nvGrpSpPr>
        <p:grpSpPr>
          <a:xfrm>
            <a:off x="684360" y="1635120"/>
            <a:ext cx="4020120" cy="4052880"/>
            <a:chOff x="684360" y="1635120"/>
            <a:chExt cx="4020120" cy="4052880"/>
          </a:xfrm>
        </p:grpSpPr>
        <p:sp>
          <p:nvSpPr>
            <p:cNvPr id="352" name=""/>
            <p:cNvSpPr/>
            <p:nvPr/>
          </p:nvSpPr>
          <p:spPr>
            <a:xfrm>
              <a:off x="684360" y="1635120"/>
              <a:ext cx="3944880" cy="40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768240" y="1739880"/>
              <a:ext cx="3936240" cy="3818160"/>
              <a:chOff x="768240" y="1739880"/>
              <a:chExt cx="3936240" cy="3818160"/>
            </a:xfrm>
          </p:grpSpPr>
          <p:pic>
            <p:nvPicPr>
              <p:cNvPr id="3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06480" y="2176560"/>
                <a:ext cx="3571920" cy="338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>
                <a:off x="768240" y="1739880"/>
                <a:ext cx="375300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m</a:t>
                </a:r>
                <a:r>
                  <a:rPr b="0" lang="en-GB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31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 &amp; sin</a:t>
                </a:r>
                <a:r>
                  <a:rPr b="0" lang="en-GB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0" lang="en-GB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23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 measurements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437560" y="4583160"/>
                <a:ext cx="22669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5yrs (+)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86040" y="5567400"/>
            <a:ext cx="52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Cannot resolve the octant alon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First results of a </a:t>
            </a:r>
            <a:r>
              <a:rPr b="1" lang="en-GB" sz="2400" spc="-1" strike="noStrike">
                <a:solidFill>
                  <a:srgbClr val="e1121a"/>
                </a:solidFill>
                <a:latin typeface="Arial"/>
              </a:rPr>
              <a:t>feasibility</a:t>
            </a: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 study for </a:t>
            </a:r>
            <a:br>
              <a:rPr sz="2400"/>
            </a:b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a Megaton-scale (</a:t>
            </a:r>
            <a:r>
              <a:rPr b="1" lang="en-GB" sz="2400" spc="-1" strike="noStrike">
                <a:solidFill>
                  <a:srgbClr val="e1121a"/>
                </a:solidFill>
                <a:latin typeface="Arial"/>
              </a:rPr>
              <a:t>Memphys</a:t>
            </a: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) Laboratory at </a:t>
            </a:r>
            <a:r>
              <a:rPr b="1" lang="en-GB" sz="2400" spc="-1" strike="noStrike">
                <a:solidFill>
                  <a:srgbClr val="e1121a"/>
                </a:solidFill>
                <a:latin typeface="Arial"/>
              </a:rPr>
              <a:t>Fréj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 the best site (rock quality) is found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in the midd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the m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a depth of 4800 mwe : 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a really good chanc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of the two considered shapes : “tunnel” and “shaft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haft (= well) sha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is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trongly prefer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with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vertical cylin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hafts, a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possible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hafts of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240 000 m</a:t>
            </a: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ach =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1 200 000 m</a:t>
            </a: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                            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2119ac"/>
                </a:solidFill>
                <a:latin typeface="Symbol"/>
                <a:ea typeface="Symbol"/>
              </a:rPr>
              <a:t>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 = 65m, h = 80m)</a:t>
            </a: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with “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egg sha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intermediate sha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shafts, thi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uld be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still improv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only 4 shafts nee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an estimate of the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eeded for the excav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of the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cos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under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92960" y="6461280"/>
            <a:ext cx="23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L.Mosc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Use of the Atmospheric Dat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619280" y="1076400"/>
            <a:ext cx="5937840" cy="5240520"/>
            <a:chOff x="1619280" y="1076400"/>
            <a:chExt cx="5937840" cy="5240520"/>
          </a:xfrm>
        </p:grpSpPr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1619280" y="1076400"/>
              <a:ext cx="5359320" cy="52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584320" y="5918040"/>
              <a:ext cx="19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Th. 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135360" y="6081840"/>
            <a:ext cx="404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Use glbChiDelta and </a:t>
            </a:r>
            <a:r>
              <a:rPr b="0" lang="fr-FR" sz="1400" spc="-1" strike="noStrike">
                <a:solidFill>
                  <a:srgbClr val="003399"/>
                </a:solidFill>
                <a:latin typeface="Symbol"/>
                <a:ea typeface="Symbol"/>
              </a:rPr>
              <a:t></a:t>
            </a:r>
            <a:r>
              <a:rPr b="0" lang="fr-FR" sz="14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 (1dof)=9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72040" y="2230560"/>
            <a:ext cx="3981600" cy="21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 </a:t>
            </a:r>
            <a:r>
              <a:rPr b="0" lang="en-GB" sz="1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GB" sz="16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000099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en-GB" sz="1600" spc="-1" strike="noStrike">
                <a:solidFill>
                  <a:srgbClr val="000099"/>
                </a:solidFill>
                <a:latin typeface="Symbol"/>
                <a:ea typeface="Symbol"/>
              </a:rPr>
              <a:t>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Tests 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0 and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use SPL disappearance channe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% syst on signal &amp; bkg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-189000" y="1039680"/>
            <a:ext cx="5502240" cy="4962600"/>
            <a:chOff x="-189000" y="1039680"/>
            <a:chExt cx="5502240" cy="4962600"/>
          </a:xfrm>
        </p:grpSpPr>
        <p:sp>
          <p:nvSpPr>
            <p:cNvPr id="369" name=""/>
            <p:cNvSpPr/>
            <p:nvPr/>
          </p:nvSpPr>
          <p:spPr>
            <a:xfrm>
              <a:off x="299880" y="1085760"/>
              <a:ext cx="4872240" cy="491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0560" y="1039680"/>
              <a:ext cx="486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99"/>
                  </a:solidFill>
                  <a:latin typeface="Comic Sans MS"/>
                </a:rPr>
                <a:t>CP discovery @ 3</a:t>
              </a:r>
              <a:r>
                <a:rPr b="0" lang="en-US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371" name="" descr=""/>
            <p:cNvPicPr/>
            <p:nvPr/>
          </p:nvPicPr>
          <p:blipFill>
            <a:blip r:embed="rId1"/>
            <a:srcRect l="0" t="0" r="0" b="2088"/>
            <a:stretch/>
          </p:blipFill>
          <p:spPr>
            <a:xfrm>
              <a:off x="411120" y="1566720"/>
              <a:ext cx="4562640" cy="41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68080" y="4125960"/>
              <a:ext cx="2437560" cy="901800"/>
            </a:xfrm>
            <a:prstGeom prst="rect">
              <a:avLst/>
            </a:prstGeom>
            <a:solidFill>
              <a:srgbClr val="f4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99"/>
                  </a:solidFill>
                  <a:latin typeface="Comic Sans MS"/>
                </a:rPr>
                <a:t>2yrs (+)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99"/>
                  </a:solidFill>
                  <a:latin typeface="Comic Sans MS"/>
                </a:rPr>
                <a:t>8yrs (-)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-189000" y="5504040"/>
              <a:ext cx="2637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Comic Sans MS"/>
                </a:rPr>
                <a:t>preliminar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44720" y="3174840"/>
              <a:ext cx="3682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67320" y="2951280"/>
              <a:ext cx="2466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66ff"/>
                  </a:solidFill>
                  <a:latin typeface="Comic Sans MS"/>
                </a:rPr>
                <a:t>Old Opti.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19520" y="3632040"/>
              <a:ext cx="36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30960" y="3408480"/>
              <a:ext cx="2582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New Opti.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5230800" y="5025960"/>
            <a:ext cx="368928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Octant and mass hierarchy degeneracy have little impact on the contour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comparisons with other faciliti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1136520"/>
            <a:ext cx="9144000" cy="45849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212880" y="5349960"/>
            <a:ext cx="322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MM@NuFact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article Id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from M. Mezzetto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13430" r="0" b="0"/>
          <a:stretch/>
        </p:blipFill>
        <p:spPr>
          <a:xfrm>
            <a:off x="500040" y="1060560"/>
            <a:ext cx="8624880" cy="54608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2133720" y="1033560"/>
            <a:ext cx="5389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,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4MW SPL, GLoB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71360" y="4272120"/>
            <a:ext cx="42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2% syst. on signal &amp; bk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52000" y="6303960"/>
            <a:ext cx="34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2dof)=4.6 or 11.83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0720" y="6273720"/>
            <a:ext cx="39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*: 5 bins [0.08,1.08] GeV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84800" y="4973760"/>
            <a:ext cx="484848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GB" sz="20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(90%CL) = 610</a:t>
            </a:r>
            <a:r>
              <a:rPr b="1" lang="en-GB" sz="2000" spc="-1" strike="noStrike" baseline="30000">
                <a:solidFill>
                  <a:srgbClr val="000099"/>
                </a:solidFill>
                <a:latin typeface="Comic Sans MS"/>
              </a:rPr>
              <a:t>-3 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(0.7°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15480" y="1778040"/>
            <a:ext cx="27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5yrs (+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-457200" y="1525680"/>
            <a:ext cx="5313240" cy="4314600"/>
            <a:chOff x="-457200" y="1525680"/>
            <a:chExt cx="5313240" cy="4314600"/>
          </a:xfrm>
        </p:grpSpPr>
        <p:grpSp>
          <p:nvGrpSpPr>
            <p:cNvPr id="390" name=""/>
            <p:cNvGrpSpPr/>
            <p:nvPr/>
          </p:nvGrpSpPr>
          <p:grpSpPr>
            <a:xfrm>
              <a:off x="-457200" y="1525680"/>
              <a:ext cx="5313240" cy="4314600"/>
              <a:chOff x="-457200" y="1525680"/>
              <a:chExt cx="5313240" cy="431460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-457200" y="1525680"/>
                <a:ext cx="5103720" cy="4314600"/>
                <a:chOff x="-457200" y="1525680"/>
                <a:chExt cx="5103720" cy="4314600"/>
              </a:xfrm>
            </p:grpSpPr>
            <p:grpSp>
              <p:nvGrpSpPr>
                <p:cNvPr id="392" name=""/>
                <p:cNvGrpSpPr/>
                <p:nvPr/>
              </p:nvGrpSpPr>
              <p:grpSpPr>
                <a:xfrm>
                  <a:off x="103320" y="1525680"/>
                  <a:ext cx="4543200" cy="4314600"/>
                  <a:chOff x="103320" y="1525680"/>
                  <a:chExt cx="4543200" cy="4314600"/>
                </a:xfrm>
              </p:grpSpPr>
              <p:pic>
                <p:nvPicPr>
                  <p:cNvPr id="39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03320" y="1525680"/>
                    <a:ext cx="454320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4" name=""/>
                  <p:cNvSpPr/>
                  <p:nvPr/>
                </p:nvSpPr>
                <p:spPr>
                  <a:xfrm>
                    <a:off x="416520" y="2000160"/>
                    <a:ext cx="2121840" cy="510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609480" indent="-609480"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0000"/>
                        </a:solidFill>
                        <a:latin typeface="Symbol"/>
                        <a:ea typeface="Symbol"/>
                      </a:rPr>
                      <a:t></a:t>
                    </a:r>
                    <a:r>
                      <a:rPr b="1" lang="en-GB" sz="2400" spc="-1" strike="noStrike" baseline="-25000">
                        <a:solidFill>
                          <a:srgbClr val="ff0000"/>
                        </a:solidFill>
                        <a:latin typeface="Comic Sans MS"/>
                      </a:rPr>
                      <a:t>CP</a:t>
                    </a:r>
                    <a:r>
                      <a:rPr b="0" lang="en-GB" sz="2400" spc="-1" strike="noStrike">
                        <a:solidFill>
                          <a:srgbClr val="ff0000"/>
                        </a:solidFill>
                        <a:latin typeface="Comic Sans MS"/>
                      </a:rPr>
                      <a:t>=0</a:t>
                    </a: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1028880" y="4686120"/>
                    <a:ext cx="0" cy="570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6" name=""/>
                <p:cNvSpPr/>
                <p:nvPr/>
              </p:nvSpPr>
              <p:spPr>
                <a:xfrm>
                  <a:off x="-457200" y="5460840"/>
                  <a:ext cx="26370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3399"/>
                      </a:solidFill>
                      <a:latin typeface="Comic Sans MS"/>
                    </a:rPr>
                    <a:t>preliminary</a:t>
                  </a:r>
                  <a:endParaRPr b="0" lang="en-US" sz="1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2738520" y="1884240"/>
                <a:ext cx="21175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3399"/>
                    </a:solidFill>
                    <a:latin typeface="Comic Sans MS"/>
                  </a:rPr>
                  <a:t>90%CL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1938240" y="3335400"/>
              <a:ext cx="2739240" cy="901800"/>
            </a:xfrm>
            <a:prstGeom prst="rect">
              <a:avLst/>
            </a:prstGeom>
            <a:solidFill>
              <a:srgbClr val="f4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Comic Sans MS"/>
                </a:rPr>
                <a:t>New Opt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Comic Sans MS"/>
                </a:rPr>
                <a:t>Old  Opt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592520" y="2624040"/>
            <a:ext cx="44323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Comic Sans MS"/>
              </a:rPr>
              <a:t>3,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US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and use SPL disappearance channel and spectrum analysis*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09680" y="5524560"/>
            <a:ext cx="56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zeable improvemen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622440" y="1200240"/>
            <a:ext cx="5130720" cy="5397480"/>
          </a:xfrm>
          <a:prstGeom prst="rect">
            <a:avLst/>
          </a:prstGeom>
          <a:ln w="0">
            <a:noFill/>
          </a:ln>
        </p:spPr>
      </p:pic>
      <p:grpSp>
        <p:nvGrpSpPr>
          <p:cNvPr id="402" name=""/>
          <p:cNvGrpSpPr/>
          <p:nvPr/>
        </p:nvGrpSpPr>
        <p:grpSpPr>
          <a:xfrm>
            <a:off x="4889520" y="1611360"/>
            <a:ext cx="2082960" cy="1077120"/>
            <a:chOff x="4889520" y="1611360"/>
            <a:chExt cx="2082960" cy="1077120"/>
          </a:xfrm>
        </p:grpSpPr>
        <p:sp>
          <p:nvSpPr>
            <p:cNvPr id="403" name=""/>
            <p:cNvSpPr/>
            <p:nvPr/>
          </p:nvSpPr>
          <p:spPr>
            <a:xfrm>
              <a:off x="4949640" y="1611360"/>
              <a:ext cx="43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11200" y="1812960"/>
              <a:ext cx="38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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89520" y="2282760"/>
              <a:ext cx="20829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~1/2 </a:t>
              </a: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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 &amp; 1/2 K</a:t>
              </a:r>
              <a:r>
                <a:rPr b="0" lang="fr-FR" sz="1800" spc="-1" strike="noStrike" baseline="30000">
                  <a:solidFill>
                    <a:srgbClr val="000099"/>
                  </a:solidFill>
                  <a:latin typeface="Arial"/>
                </a:rPr>
                <a:t>0</a:t>
              </a:r>
              <a:r>
                <a:rPr b="0" lang="fr-FR" sz="1800" spc="-1" strike="noStrike" baseline="-25000">
                  <a:solidFill>
                    <a:srgbClr val="000099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59360" y="204156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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composi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812880" y="93024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13200" y="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17360" y="1278000"/>
            <a:ext cx="3010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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cus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99080" y="3805200"/>
            <a:ext cx="286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cus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25240" y="429084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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33160" y="449280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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940280" y="4962600"/>
            <a:ext cx="3327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3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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&amp; 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&amp; 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36760" y="472428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Math1Mono"/>
                <a:ea typeface="Math1Mono"/>
              </a:rPr>
              <a:t>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volution of the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5737320"/>
            <a:ext cx="5821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 =-0.85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03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4,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15440" y="1087560"/>
            <a:ext cx="37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2yrs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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, 8 yrs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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45160" y="1616040"/>
            <a:ext cx="9076320" cy="3936600"/>
            <a:chOff x="245160" y="1616040"/>
            <a:chExt cx="9076320" cy="3936600"/>
          </a:xfrm>
        </p:grpSpPr>
        <p:pic>
          <p:nvPicPr>
            <p:cNvPr id="420" name="" descr=""/>
            <p:cNvPicPr/>
            <p:nvPr/>
          </p:nvPicPr>
          <p:blipFill>
            <a:blip r:embed="rId1"/>
            <a:stretch/>
          </p:blipFill>
          <p:spPr>
            <a:xfrm>
              <a:off x="1386000" y="2025720"/>
              <a:ext cx="2647800" cy="287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1" name=""/>
            <p:cNvGrpSpPr/>
            <p:nvPr/>
          </p:nvGrpSpPr>
          <p:grpSpPr>
            <a:xfrm>
              <a:off x="1213560" y="4840200"/>
              <a:ext cx="3036960" cy="691560"/>
              <a:chOff x="1213560" y="4840200"/>
              <a:chExt cx="3036960" cy="691560"/>
            </a:xfrm>
          </p:grpSpPr>
          <p:sp>
            <p:nvSpPr>
              <p:cNvPr id="422" name=""/>
              <p:cNvSpPr/>
              <p:nvPr/>
            </p:nvSpPr>
            <p:spPr>
              <a:xfrm>
                <a:off x="121356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2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0108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4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44548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6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88320" y="5091120"/>
                <a:ext cx="23018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3399"/>
                    </a:solidFill>
                    <a:latin typeface="Comic Sans MS"/>
                  </a:rPr>
                  <a:t>sin</a:t>
                </a:r>
                <a:r>
                  <a:rPr b="1" lang="fr-FR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1" lang="fr-FR" sz="2000" spc="-1" strike="noStrike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1" lang="fr-FR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1" lang="fr-FR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13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245160" y="1930320"/>
              <a:ext cx="1803240" cy="2975760"/>
              <a:chOff x="245160" y="1930320"/>
              <a:chExt cx="1803240" cy="2975760"/>
            </a:xfrm>
          </p:grpSpPr>
          <p:sp>
            <p:nvSpPr>
              <p:cNvPr id="427" name=""/>
              <p:cNvSpPr/>
              <p:nvPr/>
            </p:nvSpPr>
            <p:spPr>
              <a:xfrm>
                <a:off x="438120" y="4568760"/>
                <a:ext cx="158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-1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45160" y="3755880"/>
                <a:ext cx="1754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-0.5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32800" y="2843280"/>
                <a:ext cx="151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39840" y="1930320"/>
                <a:ext cx="168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5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6200000">
                <a:off x="78840" y="3186000"/>
                <a:ext cx="173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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1346040" y="2509920"/>
              <a:ext cx="274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“</a:t>
              </a:r>
              <a:r>
                <a:rPr b="0" lang="en-GB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Fact opt.”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361840" y="1996920"/>
              <a:ext cx="3959640" cy="3555720"/>
              <a:chOff x="5361840" y="1996920"/>
              <a:chExt cx="3959640" cy="355572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91160" y="2033640"/>
                <a:ext cx="2590920" cy="2876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5" name=""/>
              <p:cNvGrpSpPr/>
              <p:nvPr/>
            </p:nvGrpSpPr>
            <p:grpSpPr>
              <a:xfrm>
                <a:off x="5361840" y="4861080"/>
                <a:ext cx="3036960" cy="691560"/>
                <a:chOff x="5361840" y="4861080"/>
                <a:chExt cx="3036960" cy="69156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36184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2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4936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4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59376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6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736600" y="5112000"/>
                  <a:ext cx="23018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3399"/>
                      </a:solidFill>
                      <a:latin typeface="Comic Sans MS"/>
                    </a:rPr>
                    <a:t>sin</a:t>
                  </a:r>
                  <a:r>
                    <a:rPr b="1" lang="fr-FR" sz="2000" spc="-1" strike="noStrike" baseline="30000">
                      <a:solidFill>
                        <a:srgbClr val="003399"/>
                      </a:solidFill>
                      <a:latin typeface="Comic Sans MS"/>
                    </a:rPr>
                    <a:t>2</a:t>
                  </a:r>
                  <a:r>
                    <a:rPr b="1" lang="fr-FR" sz="2000" spc="-1" strike="noStrike">
                      <a:solidFill>
                        <a:srgbClr val="003399"/>
                      </a:solidFill>
                      <a:latin typeface="Comic Sans MS"/>
                    </a:rPr>
                    <a:t>2</a:t>
                  </a:r>
                  <a:r>
                    <a:rPr b="1" lang="fr-FR" sz="2000" spc="-1" strike="noStrike">
                      <a:solidFill>
                        <a:srgbClr val="003399"/>
                      </a:solidFill>
                      <a:latin typeface="Symbol"/>
                      <a:ea typeface="Symbol"/>
                    </a:rPr>
                    <a:t></a:t>
                  </a:r>
                  <a:r>
                    <a:rPr b="1" lang="fr-FR" sz="2000" spc="-1" strike="noStrike" baseline="-25000">
                      <a:solidFill>
                        <a:srgbClr val="003399"/>
                      </a:solidFill>
                      <a:latin typeface="Comic Sans MS"/>
                    </a:rPr>
                    <a:t>13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7517880" y="1996920"/>
                <a:ext cx="1803600" cy="2975760"/>
                <a:chOff x="7517880" y="1996920"/>
                <a:chExt cx="1803600" cy="297576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7547040" y="4635360"/>
                  <a:ext cx="1581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-1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566840" y="3822840"/>
                  <a:ext cx="1754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-0.5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517880" y="2909880"/>
                  <a:ext cx="1515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537680" y="1996920"/>
                  <a:ext cx="1689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5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200000">
                  <a:off x="7880040" y="3238200"/>
                  <a:ext cx="173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3399"/>
                      </a:solidFill>
                      <a:latin typeface="Symbol"/>
                      <a:ea typeface="Symbol"/>
                    </a:rPr>
                    <a:t>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6" name=""/>
            <p:cNvSpPr/>
            <p:nvPr/>
          </p:nvSpPr>
          <p:spPr>
            <a:xfrm>
              <a:off x="5349600" y="2509920"/>
              <a:ext cx="30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“ </a:t>
              </a: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3.5 GeV opt.”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37280" y="4141800"/>
              <a:ext cx="1796040" cy="337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tru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89400" y="4071960"/>
              <a:ext cx="2337120" cy="37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</a:t>
              </a:r>
              <a:r>
                <a:rPr b="0" lang="en-GB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</a:t>
              </a:r>
              <a:r>
                <a:rPr b="0" lang="en-GB" sz="1600" spc="-1" strike="noStrike" baseline="-25000">
                  <a:solidFill>
                    <a:srgbClr val="003399"/>
                  </a:solidFill>
                  <a:latin typeface="Comic Sans MS"/>
                </a:rPr>
                <a:t>2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51760" y="3216240"/>
              <a:ext cx="29970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hierarchy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94000" y="2778120"/>
              <a:ext cx="189252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hierarchy and </a:t>
              </a:r>
              <a:r>
                <a:rPr b="0" lang="en-GB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</a:t>
              </a:r>
              <a:r>
                <a:rPr b="0" lang="en-GB" sz="1600" spc="-1" strike="noStrike" baseline="-25000">
                  <a:solidFill>
                    <a:srgbClr val="003399"/>
                  </a:solidFill>
                  <a:latin typeface="Comic Sans MS"/>
                </a:rPr>
                <a:t>2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76000" y="4379760"/>
              <a:ext cx="219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90%C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62240" y="1847880"/>
              <a:ext cx="323748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Solid: SPL+ATM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Dashed: SPL onl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71920" y="1617840"/>
              <a:ext cx="244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Comic Sans MS"/>
                </a:rPr>
                <a:t>NNN05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23560" y="1616040"/>
              <a:ext cx="31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New Prelim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43680" y="641844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cf. Th. Schwetz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1146240" y="1260360"/>
          <a:ext cx="7273800" cy="4200480"/>
        </p:xfrm>
        <a:graphic>
          <a:graphicData uri="http://schemas.openxmlformats.org/drawingml/2006/table">
            <a:tbl>
              <a:tblPr/>
              <a:tblGrid>
                <a:gridCol w="1638360"/>
                <a:gridCol w="1442880"/>
                <a:gridCol w="1386000"/>
                <a:gridCol w="1441440"/>
                <a:gridCol w="1365120"/>
              </a:tblGrid>
              <a:tr h="657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1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4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01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3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4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1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30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14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from N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C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missId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Frac. of Bkg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duction Fa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77(22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07(17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.5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9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4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1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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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9590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4.310</a:t>
                      </a:r>
                      <a:r>
                        <a:rPr b="0" lang="en-GB" sz="1600" spc="-1" strike="noStrike" baseline="30000">
                          <a:solidFill>
                            <a:srgbClr val="000099"/>
                          </a:solidFill>
                          <a:latin typeface="Comic Sans MS"/>
                        </a:rPr>
                        <a:t>-5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CC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3819600" y="744480"/>
            <a:ext cx="47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x 8yrs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,5 Mt.yrs (-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70000" y="5477040"/>
            <a:ext cx="631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DR2 block diagram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611280" y="2246400"/>
            <a:ext cx="8229600" cy="34383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5055840" y="3780000"/>
            <a:ext cx="29008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-2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urisol,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49880" y="4789440"/>
            <a:ext cx="24670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-3.5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uperB, NuFac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35760" y="3306600"/>
            <a:ext cx="228600" cy="57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7589880" y="4998960"/>
            <a:ext cx="533520" cy="3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81440" y="1655640"/>
            <a:ext cx="5587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ERN proton complex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906800" y="1736640"/>
            <a:ext cx="138780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rcRect l="2976" t="0" r="43607" b="43333"/>
          <a:stretch/>
        </p:blipFill>
        <p:spPr>
          <a:xfrm>
            <a:off x="542880" y="2214720"/>
            <a:ext cx="7626240" cy="33591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5645160" y="2773440"/>
            <a:ext cx="1198440" cy="549360"/>
          </a:xfrm>
          <a:solidFill>
            <a:srgbClr val="cc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3 MeV test place ready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36800" y="4245120"/>
            <a:ext cx="1022400" cy="549000"/>
          </a:xfrm>
          <a:solidFill>
            <a:srgbClr val="ffe98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inac4 approval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54640" y="5603760"/>
            <a:ext cx="966960" cy="549360"/>
          </a:xfrm>
          <a:solidFill>
            <a:srgbClr val="ffc5e2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PL approval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87480" y="1368360"/>
            <a:ext cx="2082600" cy="746280"/>
          </a:xfr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RF tests in SM 18 of prototype structures* for Linac4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92600" y="5724360"/>
            <a:ext cx="933120" cy="365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Verdana"/>
              </a:rPr>
              <a:t>CDR 2</a:t>
            </a:r>
            <a:endParaRPr b="0" lang="en-US" sz="19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3819600" y="5025960"/>
            <a:ext cx="261720" cy="711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8240" y="328320"/>
            <a:ext cx="68198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lobal planning (R.G courtesy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fr-FR" sz="32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and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fr-FR" sz="32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ensitivity computa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6672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GLoBES v2.0.11 and M. Mezzetto SPL.glb file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detector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Water Cerenkov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440 kt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t Fréjus (130 km from CERN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Run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5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1 year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+ 4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2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+ 8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mputed with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=0 (standard benchmark) and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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= 0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other parameters…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= 2.5 10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= 7.1 10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4240080" y="3681360"/>
            <a:ext cx="166680" cy="498600"/>
          </a:xfrm>
          <a:custGeom>
            <a:avLst/>
            <a:gdLst>
              <a:gd name="textAreaLeft" fmla="*/ 22320 w 166680"/>
              <a:gd name="textAreaRight" fmla="*/ 144360 w 166680"/>
              <a:gd name="textAreaTop" fmla="*/ 87120 h 498600"/>
              <a:gd name="textAreaBottom" fmla="*/ 3614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30160" y="3522600"/>
            <a:ext cx="129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Sam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dur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999040" y="3633840"/>
            <a:ext cx="273240" cy="1057320"/>
          </a:xfrm>
          <a:custGeom>
            <a:avLst/>
            <a:gdLst>
              <a:gd name="textAreaLeft" fmla="*/ 36360 w 273240"/>
              <a:gd name="textAreaRight" fmla="*/ 236880 w 273240"/>
              <a:gd name="textAreaTop" fmla="*/ 203040 h 1057320"/>
              <a:gd name="textAreaBottom" fmla="*/ 700200 h 105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1480565"/>
                <a:lnTo>
                  <a:pt x="13860" y="19665"/>
                </a:lnTo>
                <a:lnTo>
                  <a:pt x="0" y="17530"/>
                </a:lnTo>
                <a:lnTo>
                  <a:pt x="13860" y="11524"/>
                </a:lnTo>
                <a:lnTo>
                  <a:pt x="13860" y="14670"/>
                </a:lnTo>
                <a:arcTo wR="21600" hR="8303" stAng="1480565" swAng="-1332597"/>
                <a:lnTo>
                  <a:pt x="21466" y="9227"/>
                </a:lnTo>
                <a:arcTo wR="21600" hR="8303" stAng="-147968" swAng="-5252032"/>
                <a:close/>
              </a:path>
              <a:path fill="darkenLess"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-147968"/>
                <a:lnTo>
                  <a:pt x="21466" y="9227"/>
                </a:lnTo>
                <a:arcTo wR="21600" hR="8303" stAng="-147968" swAng="-5252032"/>
                <a:close/>
              </a:path>
            </a:pathLst>
          </a:cu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06480" y="383868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Same statistic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48040" y="537696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23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= 1.0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70720" y="5710320"/>
            <a:ext cx="194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= 0.82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457600" cy="50864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411280" y="414972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20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16200000">
            <a:off x="1519560" y="338544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1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8694800">
            <a:off x="2481480" y="3256560"/>
            <a:ext cx="1387440" cy="1284480"/>
          </a:xfrm>
          <a:custGeom>
            <a:avLst/>
            <a:gdLst>
              <a:gd name="textAreaLeft" fmla="*/ 216720 w 1387440"/>
              <a:gd name="textAreaRight" fmla="*/ 1214280 w 1387440"/>
              <a:gd name="textAreaTop" fmla="*/ 321120 h 1284480"/>
              <a:gd name="textAreaBottom" fmla="*/ 963360 h 1284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3704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130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44560" y="193356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37080" y="450216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90480" y="1722600"/>
            <a:ext cx="9943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K+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48600" y="45021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1748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- focus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32040" y="2647800"/>
            <a:ext cx="7826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058280" y="2682720"/>
            <a:ext cx="18291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65200" y="5291280"/>
            <a:ext cx="90972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96200" y="5275440"/>
            <a:ext cx="20836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+ focus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24000" y="1413000"/>
            <a:ext cx="5543280" cy="5067000"/>
            <a:chOff x="324000" y="1413000"/>
            <a:chExt cx="5543280" cy="5067000"/>
          </a:xfrm>
        </p:grpSpPr>
        <p:pic>
          <p:nvPicPr>
            <p:cNvPr id="499" name="" descr=""/>
            <p:cNvPicPr/>
            <p:nvPr/>
          </p:nvPicPr>
          <p:blipFill>
            <a:blip r:embed="rId1"/>
            <a:stretch/>
          </p:blipFill>
          <p:spPr>
            <a:xfrm>
              <a:off x="324000" y="1413000"/>
              <a:ext cx="5543280" cy="50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2411280" y="2494080"/>
              <a:ext cx="1222560" cy="736200"/>
            </a:xfrm>
            <a:custGeom>
              <a:avLst/>
              <a:gdLst>
                <a:gd name="textAreaLeft" fmla="*/ 190800 w 1222560"/>
                <a:gd name="textAreaRight" fmla="*/ 1069920 w 1222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140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1611360" y="3276720"/>
              <a:ext cx="1152360" cy="7362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17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547600">
              <a:off x="2313000" y="3273480"/>
              <a:ext cx="1438560" cy="736200"/>
            </a:xfrm>
            <a:custGeom>
              <a:avLst/>
              <a:gdLst>
                <a:gd name="textAreaLeft" fmla="*/ 224640 w 1438560"/>
                <a:gd name="textAreaRight" fmla="*/ 1258920 w 1438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825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3000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2003400" y="218268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37080" y="52164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794120" y="22194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281840" y="5024520"/>
            <a:ext cx="1067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2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2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12880" y="93024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3760" y="1419120"/>
            <a:ext cx="7826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90000" y="1454040"/>
            <a:ext cx="18291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165320" y="4049640"/>
            <a:ext cx="90972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32760" y="3938760"/>
            <a:ext cx="20836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Mass hierarchy sensitivit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065240" y="5133960"/>
            <a:ext cx="2529000" cy="581400"/>
            <a:chOff x="1065240" y="5133960"/>
            <a:chExt cx="2529000" cy="581400"/>
          </a:xfrm>
        </p:grpSpPr>
        <p:sp>
          <p:nvSpPr>
            <p:cNvPr id="515" name=""/>
            <p:cNvSpPr/>
            <p:nvPr/>
          </p:nvSpPr>
          <p:spPr>
            <a:xfrm flipV="1">
              <a:off x="1065240" y="5419440"/>
              <a:ext cx="763560" cy="1404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97080" y="5133960"/>
              <a:ext cx="229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Atm.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066680" y="5506920"/>
            <a:ext cx="2324880" cy="581400"/>
            <a:chOff x="1066680" y="5506920"/>
            <a:chExt cx="2324880" cy="581400"/>
          </a:xfrm>
        </p:grpSpPr>
        <p:sp>
          <p:nvSpPr>
            <p:cNvPr id="518" name=""/>
            <p:cNvSpPr/>
            <p:nvPr/>
          </p:nvSpPr>
          <p:spPr>
            <a:xfrm flipV="1">
              <a:off x="1066680" y="5792760"/>
              <a:ext cx="763560" cy="144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99960" y="5506920"/>
              <a:ext cx="209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LBL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036800" y="5878440"/>
            <a:ext cx="3344760" cy="581400"/>
            <a:chOff x="1036800" y="5878440"/>
            <a:chExt cx="3344760" cy="581400"/>
          </a:xfrm>
        </p:grpSpPr>
        <p:sp>
          <p:nvSpPr>
            <p:cNvPr id="521" name=""/>
            <p:cNvSpPr/>
            <p:nvPr/>
          </p:nvSpPr>
          <p:spPr>
            <a:xfrm>
              <a:off x="1036800" y="6005520"/>
              <a:ext cx="738000" cy="39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69000" y="5878440"/>
              <a:ext cx="311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Atm+LBL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4753080" y="5369040"/>
            <a:ext cx="40798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2K-II takes benefit of more matter effec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61800" y="1704960"/>
            <a:ext cx="8947800" cy="3485160"/>
            <a:chOff x="361800" y="1704960"/>
            <a:chExt cx="8947800" cy="3485160"/>
          </a:xfrm>
        </p:grpSpPr>
        <p:pic>
          <p:nvPicPr>
            <p:cNvPr id="525" name="" descr=""/>
            <p:cNvPicPr/>
            <p:nvPr/>
          </p:nvPicPr>
          <p:blipFill>
            <a:blip r:embed="rId1"/>
            <a:stretch/>
          </p:blipFill>
          <p:spPr>
            <a:xfrm>
              <a:off x="361800" y="1704960"/>
              <a:ext cx="8420400" cy="34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7336800" y="4791240"/>
              <a:ext cx="19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Th. 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98320" y="923760"/>
            <a:ext cx="5459760" cy="5150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luxes comparison @ 130k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09600" y="4348080"/>
            <a:ext cx="6191280" cy="730800"/>
            <a:chOff x="3009600" y="4348080"/>
            <a:chExt cx="6191280" cy="730800"/>
          </a:xfrm>
        </p:grpSpPr>
        <p:sp>
          <p:nvSpPr>
            <p:cNvPr id="138" name=""/>
            <p:cNvSpPr/>
            <p:nvPr/>
          </p:nvSpPr>
          <p:spPr>
            <a:xfrm>
              <a:off x="3532680" y="4348080"/>
              <a:ext cx="502380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lt;E</a:t>
              </a:r>
              <a:r>
                <a:rPr b="1" lang="fr-FR" sz="2000" spc="-1" strike="noStrike" baseline="-25000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gt; ~ </a:t>
              </a:r>
              <a:r>
                <a:rPr b="1" lang="fr-FR" sz="2000" spc="-1" strike="noStrike">
                  <a:solidFill>
                    <a:srgbClr val="0066ff"/>
                  </a:solidFill>
                  <a:latin typeface="Arial"/>
                </a:rPr>
                <a:t>275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MeV,  </a:t>
              </a:r>
              <a:r>
                <a:rPr b="1" lang="fr-FR" sz="2000" spc="-1" strike="noStrike">
                  <a:solidFill>
                    <a:srgbClr val="0066ff"/>
                  </a:solidFill>
                  <a:latin typeface="Arial"/>
                </a:rPr>
                <a:t>4.5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 10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11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m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y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09600" y="4556160"/>
              <a:ext cx="99684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27800" y="4680000"/>
              <a:ext cx="36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Old </a:t>
              </a: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Fact optimu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236400" y="3016080"/>
            <a:ext cx="5945760" cy="762120"/>
            <a:chOff x="3236400" y="3016080"/>
            <a:chExt cx="5945760" cy="762120"/>
          </a:xfrm>
        </p:grpSpPr>
        <p:sp>
          <p:nvSpPr>
            <p:cNvPr id="142" name=""/>
            <p:cNvSpPr/>
            <p:nvPr/>
          </p:nvSpPr>
          <p:spPr>
            <a:xfrm>
              <a:off x="3520080" y="3016080"/>
              <a:ext cx="502380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lt;E</a:t>
              </a:r>
              <a:r>
                <a:rPr b="1" lang="fr-FR" sz="2000" spc="-1" strike="noStrike" baseline="-25000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gt; ~ 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300 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MeV,  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1.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 10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1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m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y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3236400" y="3196440"/>
              <a:ext cx="698760" cy="27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80120" y="3379320"/>
              <a:ext cx="390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3.5GeV SPL optimu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748560" y="2550960"/>
            <a:ext cx="485640" cy="349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3000" y="2016000"/>
            <a:ext cx="26096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~95 </a:t>
            </a:r>
            <a:r>
              <a:rPr b="0" lang="fr-FR" sz="24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fr-FR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fr-FR" sz="2400" spc="-1" strike="noStrike" baseline="30000">
                <a:solidFill>
                  <a:srgbClr val="003399"/>
                </a:solidFill>
                <a:latin typeface="Comic Sans MS"/>
              </a:rPr>
              <a:t>CC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/kT/yr*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9560" y="6191280"/>
            <a:ext cx="41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*: Lipari x-sect. (see later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040" y="6029280"/>
            <a:ext cx="56271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eflector: 50% of the Flux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volution of the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85680" y="1428840"/>
            <a:ext cx="8972640" cy="45720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67200" y="1049400"/>
            <a:ext cx="43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,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4MW SP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10560" y="5764320"/>
            <a:ext cx="649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mprove significantly T2K-I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4720" y="3403440"/>
            <a:ext cx="4076640" cy="517680"/>
          </a:xfrm>
          <a:custGeom>
            <a:avLst/>
            <a:gdLst/>
            <a:ahLst/>
            <a:rect l="l" t="t" r="r" b="b"/>
            <a:pathLst>
              <a:path w="2568" h="326">
                <a:moveTo>
                  <a:pt x="0" y="144"/>
                </a:moveTo>
                <a:cubicBezTo>
                  <a:pt x="11" y="151"/>
                  <a:pt x="43" y="171"/>
                  <a:pt x="68" y="184"/>
                </a:cubicBezTo>
                <a:cubicBezTo>
                  <a:pt x="93" y="197"/>
                  <a:pt x="123" y="213"/>
                  <a:pt x="148" y="224"/>
                </a:cubicBezTo>
                <a:cubicBezTo>
                  <a:pt x="173" y="235"/>
                  <a:pt x="197" y="245"/>
                  <a:pt x="216" y="252"/>
                </a:cubicBezTo>
                <a:cubicBezTo>
                  <a:pt x="235" y="259"/>
                  <a:pt x="245" y="259"/>
                  <a:pt x="264" y="264"/>
                </a:cubicBezTo>
                <a:cubicBezTo>
                  <a:pt x="283" y="269"/>
                  <a:pt x="309" y="279"/>
                  <a:pt x="332" y="284"/>
                </a:cubicBezTo>
                <a:cubicBezTo>
                  <a:pt x="355" y="289"/>
                  <a:pt x="378" y="291"/>
                  <a:pt x="400" y="296"/>
                </a:cubicBezTo>
                <a:cubicBezTo>
                  <a:pt x="422" y="301"/>
                  <a:pt x="441" y="307"/>
                  <a:pt x="464" y="312"/>
                </a:cubicBezTo>
                <a:cubicBezTo>
                  <a:pt x="487" y="317"/>
                  <a:pt x="519" y="322"/>
                  <a:pt x="540" y="324"/>
                </a:cubicBezTo>
                <a:cubicBezTo>
                  <a:pt x="561" y="326"/>
                  <a:pt x="573" y="324"/>
                  <a:pt x="592" y="324"/>
                </a:cubicBezTo>
                <a:cubicBezTo>
                  <a:pt x="611" y="324"/>
                  <a:pt x="633" y="325"/>
                  <a:pt x="652" y="324"/>
                </a:cubicBezTo>
                <a:cubicBezTo>
                  <a:pt x="671" y="323"/>
                  <a:pt x="687" y="323"/>
                  <a:pt x="708" y="320"/>
                </a:cubicBezTo>
                <a:cubicBezTo>
                  <a:pt x="729" y="317"/>
                  <a:pt x="755" y="312"/>
                  <a:pt x="776" y="308"/>
                </a:cubicBezTo>
                <a:cubicBezTo>
                  <a:pt x="797" y="304"/>
                  <a:pt x="809" y="301"/>
                  <a:pt x="832" y="296"/>
                </a:cubicBezTo>
                <a:cubicBezTo>
                  <a:pt x="855" y="291"/>
                  <a:pt x="885" y="288"/>
                  <a:pt x="912" y="280"/>
                </a:cubicBezTo>
                <a:cubicBezTo>
                  <a:pt x="939" y="272"/>
                  <a:pt x="968" y="257"/>
                  <a:pt x="992" y="248"/>
                </a:cubicBezTo>
                <a:cubicBezTo>
                  <a:pt x="1016" y="239"/>
                  <a:pt x="1033" y="236"/>
                  <a:pt x="1056" y="228"/>
                </a:cubicBezTo>
                <a:cubicBezTo>
                  <a:pt x="1079" y="220"/>
                  <a:pt x="1101" y="211"/>
                  <a:pt x="1132" y="200"/>
                </a:cubicBezTo>
                <a:cubicBezTo>
                  <a:pt x="1163" y="189"/>
                  <a:pt x="1211" y="175"/>
                  <a:pt x="1240" y="164"/>
                </a:cubicBezTo>
                <a:cubicBezTo>
                  <a:pt x="1269" y="153"/>
                  <a:pt x="1280" y="145"/>
                  <a:pt x="1308" y="136"/>
                </a:cubicBezTo>
                <a:cubicBezTo>
                  <a:pt x="1336" y="127"/>
                  <a:pt x="1381" y="115"/>
                  <a:pt x="1408" y="108"/>
                </a:cubicBezTo>
                <a:cubicBezTo>
                  <a:pt x="1435" y="101"/>
                  <a:pt x="1449" y="99"/>
                  <a:pt x="1472" y="92"/>
                </a:cubicBezTo>
                <a:cubicBezTo>
                  <a:pt x="1495" y="85"/>
                  <a:pt x="1525" y="74"/>
                  <a:pt x="1544" y="68"/>
                </a:cubicBezTo>
                <a:cubicBezTo>
                  <a:pt x="1563" y="62"/>
                  <a:pt x="1573" y="59"/>
                  <a:pt x="1588" y="56"/>
                </a:cubicBezTo>
                <a:cubicBezTo>
                  <a:pt x="1603" y="53"/>
                  <a:pt x="1613" y="53"/>
                  <a:pt x="1632" y="48"/>
                </a:cubicBezTo>
                <a:cubicBezTo>
                  <a:pt x="1651" y="43"/>
                  <a:pt x="1684" y="34"/>
                  <a:pt x="1704" y="28"/>
                </a:cubicBezTo>
                <a:cubicBezTo>
                  <a:pt x="1724" y="22"/>
                  <a:pt x="1737" y="16"/>
                  <a:pt x="1752" y="12"/>
                </a:cubicBezTo>
                <a:cubicBezTo>
                  <a:pt x="1767" y="8"/>
                  <a:pt x="1779" y="5"/>
                  <a:pt x="1796" y="4"/>
                </a:cubicBezTo>
                <a:cubicBezTo>
                  <a:pt x="1813" y="3"/>
                  <a:pt x="1837" y="5"/>
                  <a:pt x="1856" y="4"/>
                </a:cubicBezTo>
                <a:cubicBezTo>
                  <a:pt x="1875" y="3"/>
                  <a:pt x="1889" y="0"/>
                  <a:pt x="1912" y="0"/>
                </a:cubicBezTo>
                <a:cubicBezTo>
                  <a:pt x="1935" y="0"/>
                  <a:pt x="1967" y="3"/>
                  <a:pt x="1996" y="4"/>
                </a:cubicBezTo>
                <a:cubicBezTo>
                  <a:pt x="2025" y="5"/>
                  <a:pt x="2056" y="4"/>
                  <a:pt x="2084" y="8"/>
                </a:cubicBezTo>
                <a:cubicBezTo>
                  <a:pt x="2112" y="12"/>
                  <a:pt x="2137" y="23"/>
                  <a:pt x="2164" y="28"/>
                </a:cubicBezTo>
                <a:cubicBezTo>
                  <a:pt x="2191" y="33"/>
                  <a:pt x="2223" y="35"/>
                  <a:pt x="2248" y="40"/>
                </a:cubicBezTo>
                <a:cubicBezTo>
                  <a:pt x="2273" y="45"/>
                  <a:pt x="2286" y="53"/>
                  <a:pt x="2312" y="60"/>
                </a:cubicBezTo>
                <a:cubicBezTo>
                  <a:pt x="2338" y="67"/>
                  <a:pt x="2369" y="72"/>
                  <a:pt x="2404" y="84"/>
                </a:cubicBezTo>
                <a:cubicBezTo>
                  <a:pt x="2439" y="96"/>
                  <a:pt x="2497" y="120"/>
                  <a:pt x="2524" y="132"/>
                </a:cubicBezTo>
                <a:cubicBezTo>
                  <a:pt x="2551" y="144"/>
                  <a:pt x="2560" y="150"/>
                  <a:pt x="2568" y="156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8240" y="39304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81200" y="3506760"/>
            <a:ext cx="4051080" cy="897120"/>
          </a:xfrm>
          <a:custGeom>
            <a:avLst/>
            <a:gdLst/>
            <a:ahLst/>
            <a:rect l="l" t="t" r="r" b="b"/>
            <a:pathLst>
              <a:path w="2552" h="565">
                <a:moveTo>
                  <a:pt x="0" y="259"/>
                </a:moveTo>
                <a:cubicBezTo>
                  <a:pt x="22" y="278"/>
                  <a:pt x="44" y="297"/>
                  <a:pt x="68" y="315"/>
                </a:cubicBezTo>
                <a:cubicBezTo>
                  <a:pt x="92" y="333"/>
                  <a:pt x="111" y="347"/>
                  <a:pt x="144" y="367"/>
                </a:cubicBezTo>
                <a:cubicBezTo>
                  <a:pt x="177" y="387"/>
                  <a:pt x="231" y="414"/>
                  <a:pt x="268" y="435"/>
                </a:cubicBezTo>
                <a:cubicBezTo>
                  <a:pt x="305" y="456"/>
                  <a:pt x="327" y="475"/>
                  <a:pt x="364" y="491"/>
                </a:cubicBezTo>
                <a:cubicBezTo>
                  <a:pt x="401" y="507"/>
                  <a:pt x="457" y="520"/>
                  <a:pt x="488" y="531"/>
                </a:cubicBezTo>
                <a:cubicBezTo>
                  <a:pt x="519" y="542"/>
                  <a:pt x="526" y="550"/>
                  <a:pt x="552" y="555"/>
                </a:cubicBezTo>
                <a:cubicBezTo>
                  <a:pt x="578" y="560"/>
                  <a:pt x="615" y="562"/>
                  <a:pt x="644" y="563"/>
                </a:cubicBezTo>
                <a:cubicBezTo>
                  <a:pt x="673" y="564"/>
                  <a:pt x="701" y="565"/>
                  <a:pt x="728" y="563"/>
                </a:cubicBezTo>
                <a:cubicBezTo>
                  <a:pt x="755" y="561"/>
                  <a:pt x="780" y="556"/>
                  <a:pt x="808" y="551"/>
                </a:cubicBezTo>
                <a:cubicBezTo>
                  <a:pt x="836" y="546"/>
                  <a:pt x="863" y="540"/>
                  <a:pt x="896" y="531"/>
                </a:cubicBezTo>
                <a:cubicBezTo>
                  <a:pt x="929" y="522"/>
                  <a:pt x="969" y="516"/>
                  <a:pt x="1008" y="495"/>
                </a:cubicBezTo>
                <a:cubicBezTo>
                  <a:pt x="1047" y="474"/>
                  <a:pt x="1090" y="434"/>
                  <a:pt x="1128" y="407"/>
                </a:cubicBezTo>
                <a:cubicBezTo>
                  <a:pt x="1166" y="380"/>
                  <a:pt x="1199" y="354"/>
                  <a:pt x="1236" y="331"/>
                </a:cubicBezTo>
                <a:cubicBezTo>
                  <a:pt x="1273" y="308"/>
                  <a:pt x="1312" y="292"/>
                  <a:pt x="1352" y="267"/>
                </a:cubicBezTo>
                <a:cubicBezTo>
                  <a:pt x="1392" y="242"/>
                  <a:pt x="1428" y="211"/>
                  <a:pt x="1476" y="179"/>
                </a:cubicBezTo>
                <a:cubicBezTo>
                  <a:pt x="1524" y="147"/>
                  <a:pt x="1595" y="100"/>
                  <a:pt x="1640" y="75"/>
                </a:cubicBezTo>
                <a:cubicBezTo>
                  <a:pt x="1685" y="50"/>
                  <a:pt x="1722" y="40"/>
                  <a:pt x="1748" y="31"/>
                </a:cubicBezTo>
                <a:cubicBezTo>
                  <a:pt x="1774" y="22"/>
                  <a:pt x="1779" y="23"/>
                  <a:pt x="1796" y="19"/>
                </a:cubicBezTo>
                <a:cubicBezTo>
                  <a:pt x="1813" y="15"/>
                  <a:pt x="1824" y="9"/>
                  <a:pt x="1848" y="7"/>
                </a:cubicBezTo>
                <a:cubicBezTo>
                  <a:pt x="1872" y="5"/>
                  <a:pt x="1909" y="8"/>
                  <a:pt x="1940" y="7"/>
                </a:cubicBezTo>
                <a:cubicBezTo>
                  <a:pt x="1971" y="6"/>
                  <a:pt x="2000" y="0"/>
                  <a:pt x="2032" y="3"/>
                </a:cubicBezTo>
                <a:cubicBezTo>
                  <a:pt x="2064" y="6"/>
                  <a:pt x="2101" y="16"/>
                  <a:pt x="2132" y="23"/>
                </a:cubicBezTo>
                <a:cubicBezTo>
                  <a:pt x="2163" y="30"/>
                  <a:pt x="2193" y="36"/>
                  <a:pt x="2220" y="47"/>
                </a:cubicBezTo>
                <a:cubicBezTo>
                  <a:pt x="2247" y="58"/>
                  <a:pt x="2266" y="72"/>
                  <a:pt x="2296" y="87"/>
                </a:cubicBezTo>
                <a:cubicBezTo>
                  <a:pt x="2326" y="102"/>
                  <a:pt x="2365" y="120"/>
                  <a:pt x="2400" y="139"/>
                </a:cubicBezTo>
                <a:cubicBezTo>
                  <a:pt x="2435" y="158"/>
                  <a:pt x="2479" y="185"/>
                  <a:pt x="2504" y="203"/>
                </a:cubicBezTo>
                <a:cubicBezTo>
                  <a:pt x="2529" y="221"/>
                  <a:pt x="2540" y="234"/>
                  <a:pt x="2552" y="24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5 years positive focus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-91440" y="5562720"/>
            <a:ext cx="8800200" cy="926280"/>
            <a:chOff x="-91440" y="5562720"/>
            <a:chExt cx="8800200" cy="926280"/>
          </a:xfrm>
        </p:grpSpPr>
        <p:sp>
          <p:nvSpPr>
            <p:cNvPr id="536" name=""/>
            <p:cNvSpPr/>
            <p:nvPr/>
          </p:nvSpPr>
          <p:spPr>
            <a:xfrm>
              <a:off x="-9144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41920" y="5729400"/>
              <a:ext cx="306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&gt; 7.1 1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-4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34040" y="5562720"/>
              <a:ext cx="17838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 = 4.5GeV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=300MeV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780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2000" y="5562720"/>
              <a:ext cx="270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unnel : 40m long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m radius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5268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2120" y="5638680"/>
              <a:ext cx="7596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889200" y="99072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4738680" y="990720"/>
            <a:ext cx="4011480" cy="4615560"/>
            <a:chOff x="4738680" y="990720"/>
            <a:chExt cx="4011480" cy="4615560"/>
          </a:xfrm>
        </p:grpSpPr>
        <p:sp>
          <p:nvSpPr>
            <p:cNvPr id="545" name=""/>
            <p:cNvSpPr/>
            <p:nvPr/>
          </p:nvSpPr>
          <p:spPr>
            <a:xfrm>
              <a:off x="5002560" y="990720"/>
              <a:ext cx="34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ocusing comparison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546" name="" descr=""/>
            <p:cNvPicPr/>
            <p:nvPr/>
          </p:nvPicPr>
          <p:blipFill>
            <a:blip r:embed="rId1"/>
            <a:stretch/>
          </p:blipFill>
          <p:spPr>
            <a:xfrm>
              <a:off x="4800600" y="1447920"/>
              <a:ext cx="384984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47" name=""/>
            <p:cNvSpPr/>
            <p:nvPr/>
          </p:nvSpPr>
          <p:spPr>
            <a:xfrm>
              <a:off x="755136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ffff0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ffff0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05720" y="519444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53480" y="5335560"/>
              <a:ext cx="68904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70880" y="516564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97360" y="1490760"/>
              <a:ext cx="389160" cy="33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6200000">
              <a:off x="426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38680" y="4140360"/>
              <a:ext cx="6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93760" y="1447920"/>
            <a:ext cx="4151160" cy="4147200"/>
            <a:chOff x="293760" y="1447920"/>
            <a:chExt cx="4151160" cy="4147200"/>
          </a:xfrm>
        </p:grpSpPr>
        <p:pic>
          <p:nvPicPr>
            <p:cNvPr id="555" name="" descr=""/>
            <p:cNvPicPr/>
            <p:nvPr/>
          </p:nvPicPr>
          <p:blipFill>
            <a:blip r:embed="rId2"/>
            <a:stretch/>
          </p:blipFill>
          <p:spPr>
            <a:xfrm>
              <a:off x="406440" y="1447920"/>
              <a:ext cx="395748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56" name=""/>
            <p:cNvSpPr/>
            <p:nvPr/>
          </p:nvSpPr>
          <p:spPr>
            <a:xfrm>
              <a:off x="791640" y="2895480"/>
              <a:ext cx="151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~260MeV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7600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ffff0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ffff0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60440" y="516888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32040" y="5273640"/>
              <a:ext cx="714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65640" y="515448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1760" y="1455840"/>
              <a:ext cx="352440" cy="34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3760" y="4178160"/>
              <a:ext cx="60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6200000">
              <a:off x="-12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1403280" y="3433680"/>
            <a:ext cx="4737240" cy="787320"/>
            <a:chOff x="1403280" y="3433680"/>
            <a:chExt cx="4737240" cy="787320"/>
          </a:xfrm>
        </p:grpSpPr>
        <p:sp>
          <p:nvSpPr>
            <p:cNvPr id="565" name=""/>
            <p:cNvSpPr/>
            <p:nvPr/>
          </p:nvSpPr>
          <p:spPr>
            <a:xfrm>
              <a:off x="1403280" y="3544920"/>
              <a:ext cx="351000" cy="676080"/>
            </a:xfrm>
            <a:prstGeom prst="ellipse">
              <a:avLst/>
            </a:prstGeom>
            <a:noFill/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89520" y="3433680"/>
              <a:ext cx="351000" cy="676440"/>
            </a:xfrm>
            <a:prstGeom prst="ellipse">
              <a:avLst/>
            </a:prstGeom>
            <a:noFill/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765440" y="3730320"/>
              <a:ext cx="4020840" cy="90360"/>
            </a:xfrm>
            <a:prstGeom prst="line">
              <a:avLst/>
            </a:prstGeom>
            <a:ln w="19080">
              <a:solidFill>
                <a:srgbClr val="000099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5599080" y="3656160"/>
            <a:ext cx="1800" cy="150336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0360" y="76320"/>
            <a:ext cx="7718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ositive focusing vs 10 years mixed scenario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457200" y="1401840"/>
            <a:ext cx="3925800" cy="412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4983120" y="1413000"/>
            <a:ext cx="3900600" cy="40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72" name=""/>
          <p:cNvSpPr/>
          <p:nvPr/>
        </p:nvSpPr>
        <p:spPr>
          <a:xfrm>
            <a:off x="125748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47640" y="51307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03560" y="51404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1120" y="51274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666880" y="516888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83360" y="5118120"/>
            <a:ext cx="11682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175520" y="51181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1184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76800" y="51148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75512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12008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33880" y="51530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98840" y="51656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15200" y="19749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285600" y="390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907720" y="18860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254080" y="38671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60480" y="97776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245560" y="96516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cusing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711440" y="3524400"/>
            <a:ext cx="1282680" cy="1191240"/>
            <a:chOff x="1711440" y="3524400"/>
            <a:chExt cx="1282680" cy="1191240"/>
          </a:xfrm>
        </p:grpSpPr>
        <p:sp>
          <p:nvSpPr>
            <p:cNvPr id="592" name=""/>
            <p:cNvSpPr/>
            <p:nvPr/>
          </p:nvSpPr>
          <p:spPr>
            <a:xfrm>
              <a:off x="1711440" y="3524400"/>
              <a:ext cx="1282680" cy="119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.2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816200" y="3746520"/>
              <a:ext cx="2160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16200" y="398808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816200" y="4267440"/>
              <a:ext cx="21600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29160" y="4521240"/>
              <a:ext cx="215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673200" y="1523880"/>
            <a:ext cx="21564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01400" y="41511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4000" y="36432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9160" y="3122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0960" y="260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01400" y="465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181480" y="1498680"/>
            <a:ext cx="21600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909680" y="41259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012640" y="36180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67800" y="309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09680" y="46339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746600" y="1339920"/>
            <a:ext cx="1434960" cy="1554120"/>
            <a:chOff x="4746600" y="1339920"/>
            <a:chExt cx="1434960" cy="1554120"/>
          </a:xfrm>
        </p:grpSpPr>
        <p:sp>
          <p:nvSpPr>
            <p:cNvPr id="609" name=""/>
            <p:cNvSpPr/>
            <p:nvPr/>
          </p:nvSpPr>
          <p:spPr>
            <a:xfrm>
              <a:off x="4746600" y="1339920"/>
              <a:ext cx="1434960" cy="1554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6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42000" y="1536840"/>
              <a:ext cx="1872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842000" y="2004840"/>
              <a:ext cx="199800" cy="180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9040" y="2502000"/>
              <a:ext cx="2001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400" y="5562720"/>
            <a:ext cx="8902440" cy="926280"/>
            <a:chOff x="5400" y="5562720"/>
            <a:chExt cx="8902440" cy="926280"/>
          </a:xfrm>
        </p:grpSpPr>
        <p:sp>
          <p:nvSpPr>
            <p:cNvPr id="614" name=""/>
            <p:cNvSpPr/>
            <p:nvPr/>
          </p:nvSpPr>
          <p:spPr>
            <a:xfrm>
              <a:off x="540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38320" y="5729400"/>
              <a:ext cx="326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&gt; 2.02 1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3530880" y="5562720"/>
              <a:ext cx="1900080" cy="926280"/>
              <a:chOff x="3530880" y="5562720"/>
              <a:chExt cx="1900080" cy="926280"/>
            </a:xfrm>
          </p:grpSpPr>
          <p:sp>
            <p:nvSpPr>
              <p:cNvPr id="617" name=""/>
              <p:cNvSpPr/>
              <p:nvPr/>
            </p:nvSpPr>
            <p:spPr>
              <a:xfrm>
                <a:off x="3530880" y="5562720"/>
                <a:ext cx="178380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ahoma"/>
                  </a:rPr>
                  <a:t>k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 = 3.5GeV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=300MeV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35464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798840" y="5562720"/>
              <a:ext cx="2727000" cy="838080"/>
              <a:chOff x="798840" y="5562720"/>
              <a:chExt cx="2727000" cy="838080"/>
            </a:xfrm>
          </p:grpSpPr>
          <p:sp>
            <p:nvSpPr>
              <p:cNvPr id="620" name=""/>
              <p:cNvSpPr/>
              <p:nvPr/>
            </p:nvSpPr>
            <p:spPr>
              <a:xfrm>
                <a:off x="798840" y="5562720"/>
                <a:ext cx="2701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tunnel : 40m long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m radius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44952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58960" y="5638680"/>
                <a:ext cx="7596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3" name=""/>
          <p:cNvSpPr/>
          <p:nvPr/>
        </p:nvSpPr>
        <p:spPr>
          <a:xfrm>
            <a:off x="8229600" y="1403280"/>
            <a:ext cx="0" cy="368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784760" y="1866960"/>
            <a:ext cx="1265040" cy="50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239680" y="605808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90%C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2962440" y="747720"/>
            <a:ext cx="6011640" cy="4398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37960" y="1011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eneral comparison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71360" y="5292720"/>
            <a:ext cx="8972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r 10 years in mixed focusing, sensitivity around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~1°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Clear complementarily between positive scenario and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beam (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&gt;0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200160" y="3881520"/>
            <a:ext cx="269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y mixed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0y mixed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y positive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835360" y="3244320"/>
            <a:ext cx="1542960" cy="88452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2873520" y="3586320"/>
            <a:ext cx="1604880" cy="860400"/>
          </a:xfrm>
          <a:prstGeom prst="line">
            <a:avLst/>
          </a:prstGeom>
          <a:ln w="38160">
            <a:solidFill>
              <a:srgbClr val="d6009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2860560" y="3987360"/>
            <a:ext cx="1995480" cy="725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uper Beam 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&amp;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beta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1755720" y="1098720"/>
            <a:ext cx="5827680" cy="4678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35" name=""/>
          <p:cNvSpPr/>
          <p:nvPr/>
        </p:nvSpPr>
        <p:spPr>
          <a:xfrm>
            <a:off x="2435040" y="585468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iscovery potential curv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77440" y="13143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SP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10040" y="5754600"/>
            <a:ext cx="156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M. Mezzetto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Tahoma"/>
              </a:rPr>
              <a:t>Villars SPSC 0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66360" y="3179880"/>
            <a:ext cx="124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beam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3228840" y="2576160"/>
            <a:ext cx="393840" cy="6764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03800" y="4211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Combine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022640" y="1968480"/>
            <a:ext cx="15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hi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optimis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4452840" y="2624040"/>
            <a:ext cx="225360" cy="333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MARS vs FLUK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197320" cy="352440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645" name=""/>
          <p:cNvSpPr/>
          <p:nvPr/>
        </p:nvSpPr>
        <p:spPr>
          <a:xfrm>
            <a:off x="5796000" y="3213000"/>
            <a:ext cx="2209680" cy="131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t the entrance of the SB decay tunnel (after the horn focusing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16360" y="5661000"/>
            <a:ext cx="48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Discrepancies reduced in the beam lin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32600" y="5589720"/>
            <a:ext cx="19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 = 1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 angular cu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89160" y="627228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. Cazes thesi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lux calcula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Low energy </a:t>
            </a: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Small boost </a:t>
            </a: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low focus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Need a high number of events (~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  <a:ea typeface="Arial"/>
              </a:rPr>
              <a:t>10</a:t>
            </a:r>
            <a:r>
              <a:rPr b="0" lang="fr-FR" sz="2800" spc="-1" strike="noStrike" baseline="30000">
                <a:solidFill>
                  <a:srgbClr val="003399"/>
                </a:solidFill>
                <a:latin typeface="Comic Sans MS"/>
                <a:ea typeface="Arial"/>
              </a:rPr>
              <a:t>15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  <a:ea typeface="Arial"/>
              </a:rPr>
              <a:t> evts!!!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Use probability (M. Donega thesis approach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Each time a pion,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 muon, or a kaon is decayed by Gean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ute the probability for the neutrino to reach the detector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this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robability a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eight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, and fill an histogram with the neutrino energy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ere are few kaons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rfore a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kaon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produced in the target is duplicated many times:</a:t>
            </a: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Monotype Corsiva"/>
              </a:rPr>
              <a:t>~100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Give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utrino spectrum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 rot="21579000">
            <a:off x="183600" y="4682880"/>
            <a:ext cx="730440" cy="674280"/>
          </a:xfrm>
          <a:prstGeom prst="rightArrow">
            <a:avLst>
              <a:gd name="adj1" fmla="val 50000"/>
              <a:gd name="adj2" fmla="val 2708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Horn design parameter for Super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657600" y="1128600"/>
            <a:ext cx="4876920" cy="2287800"/>
            <a:chOff x="3657600" y="1128600"/>
            <a:chExt cx="4876920" cy="2287800"/>
          </a:xfrm>
        </p:grpSpPr>
        <p:pic>
          <p:nvPicPr>
            <p:cNvPr id="654" name="" descr=""/>
            <p:cNvPicPr/>
            <p:nvPr/>
          </p:nvPicPr>
          <p:blipFill>
            <a:blip r:embed="rId1"/>
            <a:stretch/>
          </p:blipFill>
          <p:spPr>
            <a:xfrm>
              <a:off x="3657600" y="1128600"/>
              <a:ext cx="4876920" cy="2284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655" name=""/>
            <p:cNvSpPr/>
            <p:nvPr/>
          </p:nvSpPr>
          <p:spPr>
            <a:xfrm>
              <a:off x="4038480" y="3195720"/>
              <a:ext cx="381024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62520" y="3048120"/>
              <a:ext cx="2361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00520" y="30481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14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033800" y="3289320"/>
              <a:ext cx="3886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553080" y="30481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22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924680" y="2014560"/>
              <a:ext cx="609840" cy="88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001000" y="1276200"/>
              <a:ext cx="0" cy="1549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95000" y="1719360"/>
              <a:ext cx="686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8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aphicFrame>
        <p:nvGraphicFramePr>
          <p:cNvPr id="663" name=""/>
          <p:cNvGraphicFramePr/>
          <p:nvPr/>
        </p:nvGraphicFramePr>
        <p:xfrm>
          <a:off x="6548400" y="3673440"/>
          <a:ext cx="2438280" cy="2679840"/>
        </p:xfrm>
        <a:graphic>
          <a:graphicData uri="http://schemas.openxmlformats.org/drawingml/2006/table">
            <a:tbl>
              <a:tblPr/>
              <a:tblGrid>
                <a:gridCol w="1487520"/>
                <a:gridCol w="9507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HORN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inn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.4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neck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0.5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FLE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"/>
          <p:cNvSpPr/>
          <p:nvPr/>
        </p:nvSpPr>
        <p:spPr>
          <a:xfrm>
            <a:off x="4006800" y="4441680"/>
            <a:ext cx="1773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~300M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~800M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83920" y="148752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ductor thickness : 3m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horn : 300kAmp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flector : 600kAmp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hallenging!!!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663480" y="4097160"/>
            <a:ext cx="2836800" cy="177012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674640" y="56894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Using Geant 3.2.1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05600" y="608184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Fact-Note 138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873080" y="3594240"/>
            <a:ext cx="4572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Drawing from the horn built at CER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Optimized for Super Beam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90080" y="5338800"/>
            <a:ext cx="41292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+ or - focus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17120" y="320400"/>
            <a:ext cx="81536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PL block diagram (CDR 1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179280" y="5013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720800" y="1065240"/>
            <a:ext cx="695016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acteristics (Conceptual Design Report 1)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e “optimized” for a neutrino factor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 use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P cavities &amp; klys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 to the highest energ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52280" y="2535120"/>
            <a:ext cx="8748720" cy="3727440"/>
            <a:chOff x="152280" y="2535120"/>
            <a:chExt cx="8748720" cy="3727440"/>
          </a:xfrm>
        </p:grpSpPr>
        <p:pic>
          <p:nvPicPr>
            <p:cNvPr id="675" name="spl_layout_02_04" descr=""/>
            <p:cNvPicPr/>
            <p:nvPr/>
          </p:nvPicPr>
          <p:blipFill>
            <a:blip r:embed="rId1"/>
            <a:stretch/>
          </p:blipFill>
          <p:spPr>
            <a:xfrm>
              <a:off x="152280" y="2841840"/>
              <a:ext cx="8748720" cy="34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5723640" y="2535120"/>
              <a:ext cx="27453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2.2GeV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725400" y="1138320"/>
            <a:ext cx="80740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=0,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=0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and use SPL disappearance channe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-24480" y="600552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2% syst. on signal &amp; bk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07400" y="5910120"/>
            <a:ext cx="4106160" cy="581400"/>
          </a:xfrm>
          <a:prstGeom prst="rect">
            <a:avLst/>
          </a:prstGeom>
          <a:solidFill>
            <a:srgbClr val="f4e1c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mprove T2K-I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-156600" y="1816200"/>
            <a:ext cx="5229720" cy="4009320"/>
            <a:chOff x="-156600" y="1816200"/>
            <a:chExt cx="5229720" cy="4009320"/>
          </a:xfrm>
        </p:grpSpPr>
        <p:grpSp>
          <p:nvGrpSpPr>
            <p:cNvPr id="682" name=""/>
            <p:cNvGrpSpPr/>
            <p:nvPr/>
          </p:nvGrpSpPr>
          <p:grpSpPr>
            <a:xfrm>
              <a:off x="-156600" y="1816200"/>
              <a:ext cx="5229720" cy="4009320"/>
              <a:chOff x="-156600" y="1816200"/>
              <a:chExt cx="5229720" cy="4009320"/>
            </a:xfrm>
          </p:grpSpPr>
          <p:sp>
            <p:nvSpPr>
              <p:cNvPr id="683" name=""/>
              <p:cNvSpPr/>
              <p:nvPr/>
            </p:nvSpPr>
            <p:spPr>
              <a:xfrm>
                <a:off x="376200" y="1816200"/>
                <a:ext cx="4327560" cy="395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000" y="2314440"/>
                <a:ext cx="2789640" cy="117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2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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8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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579680" y="4808520"/>
                <a:ext cx="2637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99"/>
                    </a:solidFill>
                    <a:latin typeface="Comic Sans MS"/>
                  </a:rPr>
                  <a:t>preliminary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pic>
            <p:nvPicPr>
              <p:cNvPr id="6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5120" y="1895400"/>
                <a:ext cx="4170240" cy="39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"/>
              <p:cNvSpPr/>
              <p:nvPr/>
            </p:nvSpPr>
            <p:spPr>
              <a:xfrm>
                <a:off x="2521440" y="2577960"/>
                <a:ext cx="2013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Comic Sans MS"/>
                  </a:rPr>
                  <a:t>T2K-I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88" name=""/>
              <p:cNvGrpSpPr/>
              <p:nvPr/>
            </p:nvGrpSpPr>
            <p:grpSpPr>
              <a:xfrm>
                <a:off x="1072080" y="2087640"/>
                <a:ext cx="2283480" cy="337320"/>
                <a:chOff x="1072080" y="2087640"/>
                <a:chExt cx="2283480" cy="3373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1166760" y="2260440"/>
                  <a:ext cx="403200" cy="0"/>
                </a:xfrm>
                <a:prstGeom prst="line">
                  <a:avLst/>
                </a:prstGeom>
                <a:ln w="38160">
                  <a:solidFill>
                    <a:srgbClr val="ff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072080" y="2087640"/>
                  <a:ext cx="22834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66cc"/>
                      </a:solidFill>
                      <a:latin typeface="Comic Sans MS"/>
                    </a:rPr>
                    <a:t>Rate only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1099440" y="2367000"/>
                <a:ext cx="3973680" cy="337320"/>
                <a:chOff x="1099440" y="2367000"/>
                <a:chExt cx="3973680" cy="3373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1193760" y="2539800"/>
                  <a:ext cx="4032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099440" y="2367000"/>
                  <a:ext cx="3973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0000"/>
                      </a:solidFill>
                      <a:latin typeface="Comic Sans MS"/>
                    </a:rPr>
                    <a:t>Spectrum analysis (prelim.)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-156600" y="5365800"/>
                <a:ext cx="366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90%CL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 (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</a:t>
                </a:r>
                <a:r>
                  <a:rPr b="0" lang="en-GB" sz="16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(2dof)=4.6)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108160" y="4627440"/>
                <a:ext cx="2789640" cy="58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5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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96" name=""/>
              <p:cNvGrpSpPr/>
              <p:nvPr/>
            </p:nvGrpSpPr>
            <p:grpSpPr>
              <a:xfrm>
                <a:off x="1143360" y="2744640"/>
                <a:ext cx="2128320" cy="337320"/>
                <a:chOff x="1143360" y="2744640"/>
                <a:chExt cx="2128320" cy="33732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1206360" y="2895480"/>
                  <a:ext cx="403200" cy="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143360" y="2744640"/>
                  <a:ext cx="212832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3366ff"/>
                      </a:solidFill>
                      <a:latin typeface="Comic Sans MS"/>
                    </a:rPr>
                    <a:t>Old SPL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9" name=""/>
            <p:cNvSpPr/>
            <p:nvPr/>
          </p:nvSpPr>
          <p:spPr>
            <a:xfrm>
              <a:off x="1123920" y="2962080"/>
              <a:ext cx="3301920" cy="749520"/>
            </a:xfrm>
            <a:custGeom>
              <a:avLst/>
              <a:gdLst/>
              <a:ahLst/>
              <a:rect l="l" t="t" r="r" b="b"/>
              <a:pathLst>
                <a:path w="2568" h="326">
                  <a:moveTo>
                    <a:pt x="0" y="144"/>
                  </a:moveTo>
                  <a:cubicBezTo>
                    <a:pt x="11" y="151"/>
                    <a:pt x="43" y="171"/>
                    <a:pt x="68" y="184"/>
                  </a:cubicBezTo>
                  <a:cubicBezTo>
                    <a:pt x="93" y="197"/>
                    <a:pt x="123" y="213"/>
                    <a:pt x="148" y="224"/>
                  </a:cubicBezTo>
                  <a:cubicBezTo>
                    <a:pt x="173" y="235"/>
                    <a:pt x="197" y="245"/>
                    <a:pt x="216" y="252"/>
                  </a:cubicBezTo>
                  <a:cubicBezTo>
                    <a:pt x="235" y="259"/>
                    <a:pt x="245" y="259"/>
                    <a:pt x="264" y="264"/>
                  </a:cubicBezTo>
                  <a:cubicBezTo>
                    <a:pt x="283" y="269"/>
                    <a:pt x="309" y="279"/>
                    <a:pt x="332" y="284"/>
                  </a:cubicBezTo>
                  <a:cubicBezTo>
                    <a:pt x="355" y="289"/>
                    <a:pt x="378" y="291"/>
                    <a:pt x="400" y="296"/>
                  </a:cubicBezTo>
                  <a:cubicBezTo>
                    <a:pt x="422" y="301"/>
                    <a:pt x="441" y="307"/>
                    <a:pt x="464" y="312"/>
                  </a:cubicBezTo>
                  <a:cubicBezTo>
                    <a:pt x="487" y="317"/>
                    <a:pt x="519" y="322"/>
                    <a:pt x="540" y="324"/>
                  </a:cubicBezTo>
                  <a:cubicBezTo>
                    <a:pt x="561" y="326"/>
                    <a:pt x="573" y="324"/>
                    <a:pt x="592" y="324"/>
                  </a:cubicBezTo>
                  <a:cubicBezTo>
                    <a:pt x="611" y="324"/>
                    <a:pt x="633" y="325"/>
                    <a:pt x="652" y="324"/>
                  </a:cubicBezTo>
                  <a:cubicBezTo>
                    <a:pt x="671" y="323"/>
                    <a:pt x="687" y="323"/>
                    <a:pt x="708" y="320"/>
                  </a:cubicBezTo>
                  <a:cubicBezTo>
                    <a:pt x="729" y="317"/>
                    <a:pt x="755" y="312"/>
                    <a:pt x="776" y="308"/>
                  </a:cubicBezTo>
                  <a:cubicBezTo>
                    <a:pt x="797" y="304"/>
                    <a:pt x="809" y="301"/>
                    <a:pt x="832" y="296"/>
                  </a:cubicBezTo>
                  <a:cubicBezTo>
                    <a:pt x="855" y="291"/>
                    <a:pt x="885" y="288"/>
                    <a:pt x="912" y="280"/>
                  </a:cubicBezTo>
                  <a:cubicBezTo>
                    <a:pt x="939" y="272"/>
                    <a:pt x="968" y="257"/>
                    <a:pt x="992" y="248"/>
                  </a:cubicBezTo>
                  <a:cubicBezTo>
                    <a:pt x="1016" y="239"/>
                    <a:pt x="1033" y="236"/>
                    <a:pt x="1056" y="228"/>
                  </a:cubicBezTo>
                  <a:cubicBezTo>
                    <a:pt x="1079" y="220"/>
                    <a:pt x="1101" y="211"/>
                    <a:pt x="1132" y="200"/>
                  </a:cubicBezTo>
                  <a:cubicBezTo>
                    <a:pt x="1163" y="189"/>
                    <a:pt x="1211" y="175"/>
                    <a:pt x="1240" y="164"/>
                  </a:cubicBezTo>
                  <a:cubicBezTo>
                    <a:pt x="1269" y="153"/>
                    <a:pt x="1280" y="145"/>
                    <a:pt x="1308" y="136"/>
                  </a:cubicBezTo>
                  <a:cubicBezTo>
                    <a:pt x="1336" y="127"/>
                    <a:pt x="1381" y="115"/>
                    <a:pt x="1408" y="108"/>
                  </a:cubicBezTo>
                  <a:cubicBezTo>
                    <a:pt x="1435" y="101"/>
                    <a:pt x="1449" y="99"/>
                    <a:pt x="1472" y="92"/>
                  </a:cubicBezTo>
                  <a:cubicBezTo>
                    <a:pt x="1495" y="85"/>
                    <a:pt x="1525" y="74"/>
                    <a:pt x="1544" y="68"/>
                  </a:cubicBezTo>
                  <a:cubicBezTo>
                    <a:pt x="1563" y="62"/>
                    <a:pt x="1573" y="59"/>
                    <a:pt x="1588" y="56"/>
                  </a:cubicBezTo>
                  <a:cubicBezTo>
                    <a:pt x="1603" y="53"/>
                    <a:pt x="1613" y="53"/>
                    <a:pt x="1632" y="48"/>
                  </a:cubicBezTo>
                  <a:cubicBezTo>
                    <a:pt x="1651" y="43"/>
                    <a:pt x="1684" y="34"/>
                    <a:pt x="1704" y="28"/>
                  </a:cubicBezTo>
                  <a:cubicBezTo>
                    <a:pt x="1724" y="22"/>
                    <a:pt x="1737" y="16"/>
                    <a:pt x="1752" y="12"/>
                  </a:cubicBezTo>
                  <a:cubicBezTo>
                    <a:pt x="1767" y="8"/>
                    <a:pt x="1779" y="5"/>
                    <a:pt x="1796" y="4"/>
                  </a:cubicBezTo>
                  <a:cubicBezTo>
                    <a:pt x="1813" y="3"/>
                    <a:pt x="1837" y="5"/>
                    <a:pt x="1856" y="4"/>
                  </a:cubicBezTo>
                  <a:cubicBezTo>
                    <a:pt x="1875" y="3"/>
                    <a:pt x="1889" y="0"/>
                    <a:pt x="1912" y="0"/>
                  </a:cubicBezTo>
                  <a:cubicBezTo>
                    <a:pt x="1935" y="0"/>
                    <a:pt x="1967" y="3"/>
                    <a:pt x="1996" y="4"/>
                  </a:cubicBezTo>
                  <a:cubicBezTo>
                    <a:pt x="2025" y="5"/>
                    <a:pt x="2056" y="4"/>
                    <a:pt x="2084" y="8"/>
                  </a:cubicBezTo>
                  <a:cubicBezTo>
                    <a:pt x="2112" y="12"/>
                    <a:pt x="2137" y="23"/>
                    <a:pt x="2164" y="28"/>
                  </a:cubicBezTo>
                  <a:cubicBezTo>
                    <a:pt x="2191" y="33"/>
                    <a:pt x="2223" y="35"/>
                    <a:pt x="2248" y="40"/>
                  </a:cubicBezTo>
                  <a:cubicBezTo>
                    <a:pt x="2273" y="45"/>
                    <a:pt x="2286" y="53"/>
                    <a:pt x="2312" y="60"/>
                  </a:cubicBezTo>
                  <a:cubicBezTo>
                    <a:pt x="2338" y="67"/>
                    <a:pt x="2369" y="72"/>
                    <a:pt x="2404" y="84"/>
                  </a:cubicBezTo>
                  <a:cubicBezTo>
                    <a:pt x="2439" y="96"/>
                    <a:pt x="2497" y="120"/>
                    <a:pt x="2524" y="132"/>
                  </a:cubicBezTo>
                  <a:cubicBezTo>
                    <a:pt x="2551" y="144"/>
                    <a:pt x="2560" y="150"/>
                    <a:pt x="2568" y="156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805120" y="3254400"/>
              <a:ext cx="0" cy="10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444320" y="3773520"/>
              <a:ext cx="1908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x1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940280" y="1874880"/>
            <a:ext cx="4140360" cy="3882960"/>
            <a:chOff x="4940280" y="1874880"/>
            <a:chExt cx="4140360" cy="3882960"/>
          </a:xfrm>
        </p:grpSpPr>
        <p:pic>
          <p:nvPicPr>
            <p:cNvPr id="703" name="" descr=""/>
            <p:cNvPicPr/>
            <p:nvPr/>
          </p:nvPicPr>
          <p:blipFill>
            <a:blip r:embed="rId2"/>
            <a:srcRect l="6549" t="0" r="0" b="0"/>
            <a:stretch/>
          </p:blipFill>
          <p:spPr>
            <a:xfrm>
              <a:off x="4940280" y="1874880"/>
              <a:ext cx="3781440" cy="38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4954680" y="2187720"/>
              <a:ext cx="2789640" cy="117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2yrs (</a:t>
              </a:r>
              <a:r>
                <a:rPr b="1" lang="en-GB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</a:t>
              </a: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8yrs (</a:t>
              </a:r>
              <a:r>
                <a:rPr b="1" lang="en-GB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</a:t>
              </a: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443640" y="4707000"/>
              <a:ext cx="2637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Comic Sans MS"/>
                </a:rPr>
                <a:t>preliminar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 and SB flux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66960" y="1119240"/>
            <a:ext cx="7624440" cy="54054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17120" y="22500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radients at 700 MHz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290600"/>
            <a:ext cx="5518080" cy="11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Last test performed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 in CryHoLab (July 04):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5-cells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00 MHz ß=0.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65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Nb cavity A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5-01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rom CEA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/Saclay and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IPN-Orsay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6588000" y="1614600"/>
            <a:ext cx="1758960" cy="42814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708120" y="9064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rom Stephane Chel, HIPPI04, Frankfurt, sep04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6600" y="5938920"/>
            <a:ext cx="850428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LEP cavities may have worked 350MHz &amp; 3.6MV/m effective gradi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NuFact Note 04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746280" y="2359080"/>
            <a:ext cx="5256000" cy="3602160"/>
            <a:chOff x="746280" y="2359080"/>
            <a:chExt cx="5256000" cy="3602160"/>
          </a:xfrm>
        </p:grpSpPr>
        <p:pic>
          <p:nvPicPr>
            <p:cNvPr id="712" name="" descr=""/>
            <p:cNvPicPr/>
            <p:nvPr/>
          </p:nvPicPr>
          <p:blipFill>
            <a:blip r:embed="rId2"/>
            <a:stretch/>
          </p:blipFill>
          <p:spPr>
            <a:xfrm>
              <a:off x="746280" y="2359080"/>
              <a:ext cx="5256000" cy="36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3165480" y="3454560"/>
              <a:ext cx="485640" cy="4586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hoice of the Energ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574560" y="1563840"/>
            <a:ext cx="8569440" cy="102528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2"/>
          <a:srcRect l="33647" t="1798" r="0" b="0"/>
          <a:stretch/>
        </p:blipFill>
        <p:spPr>
          <a:xfrm>
            <a:off x="2357280" y="2577960"/>
            <a:ext cx="3457800" cy="69876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682560" y="1003320"/>
            <a:ext cx="7713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Neglecting Matter effect (Ok CERN-Frejus), for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 0°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38360" y="2743200"/>
            <a:ext cx="495360" cy="266760"/>
          </a:xfrm>
          <a:prstGeom prst="rightArrow">
            <a:avLst>
              <a:gd name="adj1" fmla="val 50000"/>
              <a:gd name="adj2" fmla="val 46424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62000" y="3560760"/>
            <a:ext cx="60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Maximum of probability is obtained fo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16200000">
            <a:off x="1644480" y="3994200"/>
            <a:ext cx="279360" cy="1942920"/>
          </a:xfrm>
          <a:custGeom>
            <a:avLst/>
            <a:gdLst>
              <a:gd name="textAreaLeft" fmla="*/ 178560 w 279360"/>
              <a:gd name="textAreaRight" fmla="*/ 279720 w 27936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4640" y="5186520"/>
            <a:ext cx="35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2famillies formul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273920" y="0"/>
            <a:ext cx="5473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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4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L=130km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1320" y="6056280"/>
            <a:ext cx="286128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E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 250MeV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7320" y="357120"/>
            <a:ext cx="3607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c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s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1/√2,tan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0.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820800" y="4025880"/>
            <a:ext cx="7821360" cy="736560"/>
            <a:chOff x="820800" y="4025880"/>
            <a:chExt cx="7821360" cy="736560"/>
          </a:xfrm>
        </p:grpSpPr>
        <p:pic>
          <p:nvPicPr>
            <p:cNvPr id="726" name="" descr=""/>
            <p:cNvPicPr/>
            <p:nvPr/>
          </p:nvPicPr>
          <p:blipFill>
            <a:blip r:embed="rId3">
              <a:lum contrast="24000"/>
            </a:blip>
            <a:srcRect l="23671" t="0" r="22290" b="46881"/>
            <a:stretch/>
          </p:blipFill>
          <p:spPr>
            <a:xfrm>
              <a:off x="820800" y="4025880"/>
              <a:ext cx="2760120" cy="70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" descr=""/>
            <p:cNvPicPr/>
            <p:nvPr/>
          </p:nvPicPr>
          <p:blipFill>
            <a:blip r:embed="rId4">
              <a:lum contrast="24000"/>
            </a:blip>
            <a:srcRect l="0" t="50378" r="0" b="0"/>
            <a:stretch/>
          </p:blipFill>
          <p:spPr>
            <a:xfrm>
              <a:off x="3534840" y="4062960"/>
              <a:ext cx="5107320" cy="66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860760" y="4053600"/>
              <a:ext cx="1908000" cy="7088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 rot="5400000">
            <a:off x="1682280" y="5663880"/>
            <a:ext cx="2793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2996640" y="5041800"/>
            <a:ext cx="635040" cy="304920"/>
          </a:xfrm>
          <a:prstGeom prst="rightArrow">
            <a:avLst>
              <a:gd name="adj1" fmla="val 50000"/>
              <a:gd name="adj2" fmla="val 52066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685600" y="5656320"/>
            <a:ext cx="443988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=10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-2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E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320MeV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=10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E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390MeV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997360" y="4013280"/>
            <a:ext cx="520560" cy="7491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213680" y="4368960"/>
            <a:ext cx="596880" cy="36828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25748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eam Energy comparis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6" name=""/>
          <p:cNvSpPr/>
          <p:nvPr/>
        </p:nvSpPr>
        <p:spPr>
          <a:xfrm>
            <a:off x="-211320" y="5613480"/>
            <a:ext cx="486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hep-ex/0411062 with an early version of analysi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538160" y="1465200"/>
            <a:ext cx="4404240" cy="4084560"/>
            <a:chOff x="4538160" y="1465200"/>
            <a:chExt cx="4404240" cy="4084560"/>
          </a:xfrm>
        </p:grpSpPr>
        <p:pic>
          <p:nvPicPr>
            <p:cNvPr id="738" name="" descr=""/>
            <p:cNvPicPr/>
            <p:nvPr/>
          </p:nvPicPr>
          <p:blipFill>
            <a:blip r:embed="rId1"/>
            <a:stretch/>
          </p:blipFill>
          <p:spPr>
            <a:xfrm>
              <a:off x="4573440" y="1465200"/>
              <a:ext cx="4368960" cy="4084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739" name=""/>
            <p:cNvSpPr/>
            <p:nvPr/>
          </p:nvSpPr>
          <p:spPr>
            <a:xfrm>
              <a:off x="4784760" y="5159520"/>
              <a:ext cx="130176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44360" y="516888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53160" y="515628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4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32600" y="5197320"/>
              <a:ext cx="1300320" cy="1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93200" y="518148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986520" y="519444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4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22160" y="20336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y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98640" y="1944720"/>
              <a:ext cx="56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y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y-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69160" y="3568680"/>
              <a:ext cx="1427040" cy="119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.2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84720" y="3789360"/>
              <a:ext cx="24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84720" y="4027320"/>
              <a:ext cx="241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84720" y="4305240"/>
              <a:ext cx="24156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099120" y="4556160"/>
              <a:ext cx="241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13200" y="1585800"/>
              <a:ext cx="241560" cy="344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41400" y="41893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-10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52280" y="368604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-5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13920" y="31701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20680" y="2654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5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38160" y="469260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-15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683480" y="2108160"/>
              <a:ext cx="820800" cy="5270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4543920" y="5784840"/>
            <a:ext cx="506808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3.5GeV is an optimum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93760" y="1447920"/>
            <a:ext cx="4151160" cy="4147200"/>
            <a:chOff x="293760" y="1447920"/>
            <a:chExt cx="4151160" cy="4147200"/>
          </a:xfrm>
        </p:grpSpPr>
        <p:pic>
          <p:nvPicPr>
            <p:cNvPr id="761" name="" descr=""/>
            <p:cNvPicPr/>
            <p:nvPr/>
          </p:nvPicPr>
          <p:blipFill>
            <a:blip r:embed="rId2"/>
            <a:stretch/>
          </p:blipFill>
          <p:spPr>
            <a:xfrm>
              <a:off x="406440" y="1447920"/>
              <a:ext cx="395748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762" name=""/>
            <p:cNvSpPr/>
            <p:nvPr/>
          </p:nvSpPr>
          <p:spPr>
            <a:xfrm>
              <a:off x="791640" y="2895480"/>
              <a:ext cx="151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~260MeV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27600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e5ba75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e5ba75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e5ba75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60440" y="516888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632040" y="5273640"/>
              <a:ext cx="714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65640" y="515448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01760" y="1455840"/>
              <a:ext cx="352440" cy="34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3760" y="4178160"/>
              <a:ext cx="60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6200000">
              <a:off x="-12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308240" y="3530520"/>
            <a:ext cx="820440" cy="527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7120" y="19224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Analysis: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GLoBES + M. Mezzetto’s parameterization fil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6240" y="1260360"/>
          <a:ext cx="7029360" cy="4135680"/>
        </p:xfrm>
        <a:graphic>
          <a:graphicData uri="http://schemas.openxmlformats.org/drawingml/2006/table">
            <a:tbl>
              <a:tblPr/>
              <a:tblGrid>
                <a:gridCol w="1406160"/>
                <a:gridCol w="1395360"/>
                <a:gridCol w="1338480"/>
                <a:gridCol w="1569960"/>
                <a:gridCol w="1319400"/>
              </a:tblGrid>
              <a:tr h="480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1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3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3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3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2200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670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from NC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C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missId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Frac. of Bkg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duction Fa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07(106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.5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9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4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45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77(15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6495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64414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4.310</a:t>
                      </a:r>
                      <a:r>
                        <a:rPr b="0" lang="en-GB" sz="1600" spc="-1" strike="noStrike" baseline="30000">
                          <a:solidFill>
                            <a:srgbClr val="000099"/>
                          </a:solidFill>
                          <a:latin typeface="Comic Sans MS"/>
                        </a:rPr>
                        <a:t>-5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CC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3791160" y="74448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x 5yrs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,2 Mt.yrs (+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70000" y="5477040"/>
            <a:ext cx="631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1240" y="5851440"/>
            <a:ext cx="80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Reduction factor and efficiencies taken from SK simulation (D. Casper) and a tight cut for e/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 misId. (cf. hep-ph/0105297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63440" y="1050840"/>
            <a:ext cx="5405400" cy="5472360"/>
            <a:chOff x="163440" y="1050840"/>
            <a:chExt cx="5405400" cy="5472360"/>
          </a:xfrm>
        </p:grpSpPr>
        <p:sp>
          <p:nvSpPr>
            <p:cNvPr id="157" name=""/>
            <p:cNvSpPr/>
            <p:nvPr/>
          </p:nvSpPr>
          <p:spPr>
            <a:xfrm>
              <a:off x="163440" y="1050840"/>
              <a:ext cx="5405400" cy="547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237960" y="1055520"/>
              <a:ext cx="5267520" cy="272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266760" y="3738600"/>
              <a:ext cx="5235480" cy="27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 flipV="1">
              <a:off x="1496880" y="1255680"/>
              <a:ext cx="0" cy="4818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213080" y="1342800"/>
              <a:ext cx="0" cy="4817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2480" y="5676840"/>
              <a:ext cx="19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21080" y="3035160"/>
              <a:ext cx="19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040" y="4991040"/>
              <a:ext cx="1981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8160" y="4749840"/>
              <a:ext cx="19814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4640" y="2355840"/>
              <a:ext cx="1981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1120" y="2104920"/>
              <a:ext cx="1981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11280" y="1309680"/>
              <a:ext cx="763560" cy="4749840"/>
            </a:xfrm>
            <a:prstGeom prst="rect">
              <a:avLst/>
            </a:prstGeom>
            <a:solidFill>
              <a:srgbClr val="96969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13080" y="1325520"/>
              <a:ext cx="763560" cy="4749840"/>
            </a:xfrm>
            <a:prstGeom prst="rect">
              <a:avLst/>
            </a:prstGeom>
            <a:solidFill>
              <a:srgbClr val="96969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Kaon/pion production?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6321960" y="0"/>
            <a:ext cx="33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Preliminary (15/9/05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44320" y="2031840"/>
            <a:ext cx="4054320" cy="459720"/>
          </a:xfrm>
          <a:prstGeom prst="leftArrowCallout">
            <a:avLst>
              <a:gd name="adj1" fmla="val 48301"/>
              <a:gd name="adj2" fmla="val 50000"/>
              <a:gd name="adj3" fmla="val 101052"/>
              <a:gd name="adj4" fmla="val 82739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FLUKA 2005.6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5400" y="4896000"/>
            <a:ext cx="4183560" cy="459720"/>
          </a:xfrm>
          <a:prstGeom prst="leftArrowCallout">
            <a:avLst>
              <a:gd name="adj1" fmla="val 25002"/>
              <a:gd name="adj2" fmla="val 50000"/>
              <a:gd name="adj3" fmla="val 151671"/>
              <a:gd name="adj4" fmla="val 80183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FLUKA 2002.4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8720" y="585936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HARP?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0640" y="2503440"/>
            <a:ext cx="41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+12.5% </a:t>
            </a:r>
            <a:r>
              <a:rPr b="0" lang="fr-FR" sz="24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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@3.5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22920" y="3335400"/>
            <a:ext cx="3255840" cy="1112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ig difference [3.5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÷ 4.5] GeV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The X-section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666720" y="4348080"/>
            <a:ext cx="847728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B is an ideal tool to measure these cross-sections and a 2% systematic error on both signal and background are used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46640" y="2719440"/>
            <a:ext cx="2710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---: Lipari et al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PRL</a:t>
            </a:r>
            <a:r>
              <a:rPr b="1" lang="fr-FR" sz="1600" spc="-1" strike="noStrike">
                <a:solidFill>
                  <a:srgbClr val="003399"/>
                </a:solidFill>
                <a:latin typeface="Comic Sans MS"/>
              </a:rPr>
              <a:t>74</a:t>
            </a: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(95)4384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on H</a:t>
            </a:r>
            <a:r>
              <a:rPr b="0" lang="fr-FR" sz="24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04960" y="1015920"/>
            <a:ext cx="5236920" cy="3385800"/>
            <a:chOff x="804960" y="1015920"/>
            <a:chExt cx="5236920" cy="3385800"/>
          </a:xfrm>
        </p:grpSpPr>
        <p:grpSp>
          <p:nvGrpSpPr>
            <p:cNvPr id="181" name=""/>
            <p:cNvGrpSpPr/>
            <p:nvPr/>
          </p:nvGrpSpPr>
          <p:grpSpPr>
            <a:xfrm>
              <a:off x="804960" y="1015920"/>
              <a:ext cx="5236920" cy="3385800"/>
              <a:chOff x="804960" y="1015920"/>
              <a:chExt cx="5236920" cy="3385800"/>
            </a:xfrm>
          </p:grpSpPr>
          <p:sp>
            <p:nvSpPr>
              <p:cNvPr id="182" name=""/>
              <p:cNvSpPr/>
              <p:nvPr/>
            </p:nvSpPr>
            <p:spPr>
              <a:xfrm>
                <a:off x="811080" y="1025280"/>
                <a:ext cx="5230440" cy="337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4960" y="1015920"/>
                <a:ext cx="5236920" cy="3369600"/>
                <a:chOff x="804960" y="1015920"/>
                <a:chExt cx="5236920" cy="3369600"/>
              </a:xfrm>
            </p:grpSpPr>
            <p:pic>
              <p:nvPicPr>
                <p:cNvPr id="18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04960" y="1015920"/>
                  <a:ext cx="5236920" cy="336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"/>
                <p:cNvSpPr/>
                <p:nvPr/>
              </p:nvSpPr>
              <p:spPr>
                <a:xfrm>
                  <a:off x="2055240" y="2666160"/>
                  <a:ext cx="3550320" cy="1290240"/>
                </a:xfrm>
                <a:custGeom>
                  <a:avLst/>
                  <a:gdLst/>
                  <a:ahLst/>
                  <a:rect l="l" t="t" r="r" b="b"/>
                  <a:pathLst>
                    <a:path w="3735" h="1733">
                      <a:moveTo>
                        <a:pt x="0" y="1718"/>
                      </a:moveTo>
                      <a:cubicBezTo>
                        <a:pt x="84" y="1725"/>
                        <a:pt x="168" y="1733"/>
                        <a:pt x="225" y="1700"/>
                      </a:cubicBezTo>
                      <a:cubicBezTo>
                        <a:pt x="282" y="1667"/>
                        <a:pt x="304" y="1625"/>
                        <a:pt x="342" y="1520"/>
                      </a:cubicBezTo>
                      <a:cubicBezTo>
                        <a:pt x="380" y="1415"/>
                        <a:pt x="416" y="1190"/>
                        <a:pt x="450" y="1070"/>
                      </a:cubicBezTo>
                      <a:cubicBezTo>
                        <a:pt x="484" y="950"/>
                        <a:pt x="515" y="888"/>
                        <a:pt x="549" y="800"/>
                      </a:cubicBezTo>
                      <a:cubicBezTo>
                        <a:pt x="583" y="712"/>
                        <a:pt x="612" y="635"/>
                        <a:pt x="657" y="539"/>
                      </a:cubicBezTo>
                      <a:cubicBezTo>
                        <a:pt x="702" y="443"/>
                        <a:pt x="761" y="308"/>
                        <a:pt x="819" y="224"/>
                      </a:cubicBezTo>
                      <a:cubicBezTo>
                        <a:pt x="877" y="140"/>
                        <a:pt x="939" y="70"/>
                        <a:pt x="1008" y="35"/>
                      </a:cubicBezTo>
                      <a:cubicBezTo>
                        <a:pt x="1077" y="0"/>
                        <a:pt x="1151" y="17"/>
                        <a:pt x="1233" y="17"/>
                      </a:cubicBezTo>
                      <a:cubicBezTo>
                        <a:pt x="1315" y="17"/>
                        <a:pt x="1377" y="19"/>
                        <a:pt x="1503" y="35"/>
                      </a:cubicBezTo>
                      <a:cubicBezTo>
                        <a:pt x="1629" y="51"/>
                        <a:pt x="1781" y="85"/>
                        <a:pt x="1989" y="116"/>
                      </a:cubicBezTo>
                      <a:cubicBezTo>
                        <a:pt x="2197" y="147"/>
                        <a:pt x="2556" y="200"/>
                        <a:pt x="2754" y="224"/>
                      </a:cubicBezTo>
                      <a:cubicBezTo>
                        <a:pt x="2952" y="248"/>
                        <a:pt x="3054" y="242"/>
                        <a:pt x="3177" y="260"/>
                      </a:cubicBezTo>
                      <a:cubicBezTo>
                        <a:pt x="3300" y="278"/>
                        <a:pt x="3399" y="320"/>
                        <a:pt x="3492" y="332"/>
                      </a:cubicBezTo>
                      <a:cubicBezTo>
                        <a:pt x="3585" y="344"/>
                        <a:pt x="3695" y="332"/>
                        <a:pt x="3735" y="332"/>
                      </a:cubicBezTo>
                    </a:path>
                  </a:pathLst>
                </a:custGeom>
                <a:noFill/>
                <a:ln w="38160">
                  <a:solidFill>
                    <a:srgbClr val="000099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578600" y="2615040"/>
                <a:ext cx="1652040" cy="1346040"/>
              </a:xfrm>
              <a:custGeom>
                <a:avLst/>
                <a:gdLst/>
                <a:ahLst/>
                <a:rect l="l" t="t" r="r" b="b"/>
                <a:pathLst>
                  <a:path w="1518" h="1234">
                    <a:moveTo>
                      <a:pt x="0" y="1234"/>
                    </a:moveTo>
                    <a:cubicBezTo>
                      <a:pt x="7" y="1217"/>
                      <a:pt x="24" y="1147"/>
                      <a:pt x="43" y="1122"/>
                    </a:cubicBezTo>
                    <a:cubicBezTo>
                      <a:pt x="62" y="1097"/>
                      <a:pt x="93" y="1094"/>
                      <a:pt x="117" y="1085"/>
                    </a:cubicBezTo>
                    <a:cubicBezTo>
                      <a:pt x="141" y="1076"/>
                      <a:pt x="153" y="1079"/>
                      <a:pt x="187" y="1066"/>
                    </a:cubicBezTo>
                    <a:cubicBezTo>
                      <a:pt x="222" y="1054"/>
                      <a:pt x="281" y="1028"/>
                      <a:pt x="323" y="1010"/>
                    </a:cubicBezTo>
                    <a:cubicBezTo>
                      <a:pt x="364" y="992"/>
                      <a:pt x="403" y="978"/>
                      <a:pt x="436" y="957"/>
                    </a:cubicBezTo>
                    <a:cubicBezTo>
                      <a:pt x="470" y="936"/>
                      <a:pt x="493" y="916"/>
                      <a:pt x="523" y="884"/>
                    </a:cubicBezTo>
                    <a:cubicBezTo>
                      <a:pt x="553" y="852"/>
                      <a:pt x="584" y="827"/>
                      <a:pt x="615" y="768"/>
                    </a:cubicBezTo>
                    <a:cubicBezTo>
                      <a:pt x="646" y="709"/>
                      <a:pt x="686" y="595"/>
                      <a:pt x="712" y="528"/>
                    </a:cubicBezTo>
                    <a:cubicBezTo>
                      <a:pt x="738" y="462"/>
                      <a:pt x="755" y="416"/>
                      <a:pt x="772" y="369"/>
                    </a:cubicBezTo>
                    <a:cubicBezTo>
                      <a:pt x="788" y="322"/>
                      <a:pt x="795" y="281"/>
                      <a:pt x="809" y="246"/>
                    </a:cubicBezTo>
                    <a:cubicBezTo>
                      <a:pt x="824" y="211"/>
                      <a:pt x="843" y="193"/>
                      <a:pt x="858" y="160"/>
                    </a:cubicBezTo>
                    <a:cubicBezTo>
                      <a:pt x="874" y="127"/>
                      <a:pt x="890" y="71"/>
                      <a:pt x="901" y="47"/>
                    </a:cubicBezTo>
                    <a:cubicBezTo>
                      <a:pt x="913" y="23"/>
                      <a:pt x="918" y="21"/>
                      <a:pt x="928" y="14"/>
                    </a:cubicBezTo>
                    <a:cubicBezTo>
                      <a:pt x="939" y="6"/>
                      <a:pt x="951" y="1"/>
                      <a:pt x="966" y="0"/>
                    </a:cubicBezTo>
                    <a:cubicBezTo>
                      <a:pt x="981" y="0"/>
                      <a:pt x="1008" y="6"/>
                      <a:pt x="1020" y="10"/>
                    </a:cubicBezTo>
                    <a:cubicBezTo>
                      <a:pt x="1032" y="15"/>
                      <a:pt x="1028" y="13"/>
                      <a:pt x="1037" y="27"/>
                    </a:cubicBezTo>
                    <a:cubicBezTo>
                      <a:pt x="1046" y="41"/>
                      <a:pt x="1063" y="64"/>
                      <a:pt x="1073" y="92"/>
                    </a:cubicBezTo>
                    <a:cubicBezTo>
                      <a:pt x="1082" y="121"/>
                      <a:pt x="1086" y="149"/>
                      <a:pt x="1093" y="197"/>
                    </a:cubicBezTo>
                    <a:cubicBezTo>
                      <a:pt x="1100" y="245"/>
                      <a:pt x="1110" y="319"/>
                      <a:pt x="1118" y="382"/>
                    </a:cubicBezTo>
                    <a:cubicBezTo>
                      <a:pt x="1126" y="446"/>
                      <a:pt x="1132" y="513"/>
                      <a:pt x="1139" y="578"/>
                    </a:cubicBezTo>
                    <a:cubicBezTo>
                      <a:pt x="1147" y="644"/>
                      <a:pt x="1154" y="717"/>
                      <a:pt x="1160" y="775"/>
                    </a:cubicBezTo>
                    <a:cubicBezTo>
                      <a:pt x="1166" y="833"/>
                      <a:pt x="1172" y="884"/>
                      <a:pt x="1177" y="927"/>
                    </a:cubicBezTo>
                    <a:cubicBezTo>
                      <a:pt x="1183" y="970"/>
                      <a:pt x="1186" y="995"/>
                      <a:pt x="1191" y="1031"/>
                    </a:cubicBezTo>
                    <a:cubicBezTo>
                      <a:pt x="1196" y="1068"/>
                      <a:pt x="1200" y="1123"/>
                      <a:pt x="1207" y="1149"/>
                    </a:cubicBezTo>
                    <a:cubicBezTo>
                      <a:pt x="1213" y="1175"/>
                      <a:pt x="1225" y="1178"/>
                      <a:pt x="1233" y="1187"/>
                    </a:cubicBezTo>
                    <a:cubicBezTo>
                      <a:pt x="1240" y="1195"/>
                      <a:pt x="1244" y="1195"/>
                      <a:pt x="1254" y="1200"/>
                    </a:cubicBezTo>
                    <a:cubicBezTo>
                      <a:pt x="1263" y="1205"/>
                      <a:pt x="1276" y="1215"/>
                      <a:pt x="1290" y="1219"/>
                    </a:cubicBezTo>
                    <a:cubicBezTo>
                      <a:pt x="1303" y="1222"/>
                      <a:pt x="1314" y="1219"/>
                      <a:pt x="1334" y="1219"/>
                    </a:cubicBezTo>
                    <a:cubicBezTo>
                      <a:pt x="1354" y="1219"/>
                      <a:pt x="1385" y="1218"/>
                      <a:pt x="1410" y="1219"/>
                    </a:cubicBezTo>
                    <a:cubicBezTo>
                      <a:pt x="1435" y="1220"/>
                      <a:pt x="1468" y="1225"/>
                      <a:pt x="1486" y="1226"/>
                    </a:cubicBezTo>
                    <a:cubicBezTo>
                      <a:pt x="1504" y="1227"/>
                      <a:pt x="1513" y="1226"/>
                      <a:pt x="1518" y="1226"/>
                    </a:cubicBezTo>
                  </a:path>
                </a:pathLst>
              </a:custGeom>
              <a:solidFill>
                <a:srgbClr val="969696">
                  <a:alpha val="26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909360" y="2476440"/>
              <a:ext cx="2174040" cy="440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 baseline="-25000">
                  <a:solidFill>
                    <a:srgbClr val="003399"/>
                  </a:solidFill>
                  <a:latin typeface="Symbol"/>
                  <a:ea typeface="Symbol"/>
                </a:rPr>
                <a:t></a:t>
              </a: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</a:t>
              </a: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P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60640" y="2894040"/>
              <a:ext cx="20484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732120" y="57499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Require close position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2076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omparison with other faciliti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45000" y="853920"/>
            <a:ext cx="4599000" cy="5605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57320" y="1027080"/>
            <a:ext cx="4157640" cy="4692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06680" y="5770440"/>
            <a:ext cx="32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M.M@NuFact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0200" y="6105600"/>
            <a:ext cx="39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Systematics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9:04:34Z</dcterms:created>
  <dc:creator>cazes</dc:creator>
  <dc:description/>
  <dc:language>en-US</dc:language>
  <cp:lastModifiedBy>J.E Campagne</cp:lastModifiedBy>
  <dcterms:modified xsi:type="dcterms:W3CDTF">2005-09-26T09:43:36Z</dcterms:modified>
  <cp:revision>251</cp:revision>
  <dc:subject/>
  <dc:title>SPL-Fréjus optimisation. </dc:title>
</cp:coreProperties>
</file>